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camera.wav" ContentType="audio/x-wav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5CBC-9849-4E7A-B96E-DDAF42BE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953B-AEBF-4ACA-8616-BBD2C0FB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2A29-E4C6-4FDF-9B15-45537E57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5EAD-9D7C-40CD-9121-CA774F85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FD5B-BCA7-40F4-B70F-789087C3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3AA9-46A4-4C98-884A-2E03D3F3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0751-6F2B-4FF1-B4A5-0C101816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2FED-B53A-49C8-8BCB-F330BC87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4CEC-424D-44A9-85D0-00019A3D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F6E4-4058-4239-8010-9BD753A6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7891-6350-4911-A614-207BCBEC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3E8F-F174-434B-BEB7-838828E7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4780-ED3E-4603-B43F-196576B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5FCE-644B-4D4F-AEC3-60A2316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CF13-5B94-4280-9594-04BB7995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7AD2-70E0-4388-B9D2-D47399B2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0CEA-65C9-4189-A077-096E7FED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AA9A-63C8-4AE0-81EA-F36BF545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2A61-B2A3-438A-8A26-457F3765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62FC-71D6-4274-A795-96858C87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9634-276E-432A-95F2-42D61950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224B-5519-4C86-A321-0D958C58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8F89-19B7-4477-A78B-959CE1E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E175C-111F-4F19-A04A-5DCE3B00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8AFC-92EA-41E8-B1A8-9C05E05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8368-2D84-49AF-B820-55A5DA31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4D7C-19C5-4872-9630-DF4E7C95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4968-9294-43F9-B5A9-87A70A52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343F-A9E1-432A-A204-33F4CD6E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EFCF-A701-4128-8E0A-4BAE3938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0926-492E-463B-BB17-B157E964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9D25-05CC-45D6-A5ED-76848CB1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D663-99AF-47DC-95A7-C75C2DFC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E178-82CF-4C78-B00A-AE8C629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5F19-3AF4-42BA-B943-4B8B42C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D553-2C05-4C09-9BF0-0B04012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A94A-55F7-4835-995A-E0340309BD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E219-001E-4D29-8A38-76D31DFCDD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EC5E-CB77-4F3F-86AF-FC9AD1FA12A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19"/>
          <p:cNvGrpSpPr/>
          <p:nvPr/>
        </p:nvGrpSpPr>
        <p:grpSpPr>
          <a:xfrm>
            <a:off x="0" y="0"/>
            <a:ext cx="9684360" cy="6857640"/>
            <a:chOff x="0" y="0"/>
            <a:chExt cx="9684360" cy="6857640"/>
          </a:xfrm>
        </p:grpSpPr>
        <p:sp>
          <p:nvSpPr>
            <p:cNvPr id="556" name="AutoShape 6"/>
            <p:cNvSpPr/>
            <p:nvPr/>
          </p:nvSpPr>
          <p:spPr>
            <a:xfrm>
              <a:off x="0" y="0"/>
              <a:ext cx="967680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988920" y="1180440"/>
              <a:ext cx="2896920" cy="169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Group 11"/>
            <p:cNvGrpSpPr/>
            <p:nvPr/>
          </p:nvGrpSpPr>
          <p:grpSpPr>
            <a:xfrm>
              <a:off x="1921680" y="0"/>
              <a:ext cx="7762680" cy="5499000"/>
              <a:chOff x="1921680" y="0"/>
              <a:chExt cx="7762680" cy="5499000"/>
            </a:xfrm>
          </p:grpSpPr>
          <p:sp>
            <p:nvSpPr>
              <p:cNvPr id="559" name="Freeform 9"/>
              <p:cNvSpPr/>
              <p:nvPr/>
            </p:nvSpPr>
            <p:spPr>
              <a:xfrm>
                <a:off x="2037960" y="36000"/>
                <a:ext cx="7583760" cy="54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0"/>
              <p:cNvSpPr/>
              <p:nvPr/>
            </p:nvSpPr>
            <p:spPr>
              <a:xfrm>
                <a:off x="1921680" y="0"/>
                <a:ext cx="7762680" cy="54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17"/>
            <p:cNvGrpSpPr/>
            <p:nvPr/>
          </p:nvGrpSpPr>
          <p:grpSpPr>
            <a:xfrm>
              <a:off x="5760" y="1062360"/>
              <a:ext cx="2955240" cy="5794920"/>
              <a:chOff x="5760" y="1062360"/>
              <a:chExt cx="2955240" cy="5794920"/>
            </a:xfrm>
          </p:grpSpPr>
          <p:sp>
            <p:nvSpPr>
              <p:cNvPr id="562" name="Freeform 12"/>
              <p:cNvSpPr/>
              <p:nvPr/>
            </p:nvSpPr>
            <p:spPr>
              <a:xfrm>
                <a:off x="5760" y="1062360"/>
                <a:ext cx="1686240" cy="125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13"/>
              <p:cNvSpPr/>
              <p:nvPr/>
            </p:nvSpPr>
            <p:spPr>
              <a:xfrm>
                <a:off x="606600" y="2513520"/>
                <a:ext cx="1371240" cy="197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4"/>
              <p:cNvSpPr/>
              <p:nvPr/>
            </p:nvSpPr>
            <p:spPr>
              <a:xfrm>
                <a:off x="861480" y="2402280"/>
                <a:ext cx="2099520" cy="1505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5"/>
              <p:cNvSpPr/>
              <p:nvPr/>
            </p:nvSpPr>
            <p:spPr>
              <a:xfrm>
                <a:off x="1391040" y="4077000"/>
                <a:ext cx="1465200" cy="248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6"/>
              <p:cNvSpPr/>
              <p:nvPr/>
            </p:nvSpPr>
            <p:spPr>
              <a:xfrm>
                <a:off x="574920" y="4061160"/>
                <a:ext cx="893160" cy="2796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7" name="Freeform 18"/>
            <p:cNvSpPr/>
            <p:nvPr/>
          </p:nvSpPr>
          <p:spPr>
            <a:xfrm>
              <a:off x="3423960" y="1212480"/>
              <a:ext cx="521640" cy="40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Text Box 21"/>
          <p:cNvSpPr/>
          <p:nvPr/>
        </p:nvSpPr>
        <p:spPr>
          <a:xfrm>
            <a:off x="2806560" y="1197000"/>
            <a:ext cx="56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UNIDAD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3490920" y="2349360"/>
            <a:ext cx="56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SINTAXIS LA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MORFOLOGÍA LA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RFOLOGÍA N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RFOLOGIA VERB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9"/>
          <p:cNvSpPr/>
          <p:nvPr/>
        </p:nvSpPr>
        <p:spPr>
          <a:xfrm>
            <a:off x="1619280" y="44280"/>
            <a:ext cx="5473800" cy="4597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FINICIONES DE 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Group 16"/>
          <p:cNvGrpSpPr/>
          <p:nvPr/>
        </p:nvGrpSpPr>
        <p:grpSpPr>
          <a:xfrm>
            <a:off x="108000" y="692280"/>
            <a:ext cx="3744360" cy="1074240"/>
            <a:chOff x="108000" y="692280"/>
            <a:chExt cx="3744360" cy="1074240"/>
          </a:xfrm>
        </p:grpSpPr>
        <p:sp>
          <p:nvSpPr>
            <p:cNvPr id="694" name="Text Box 2"/>
            <p:cNvSpPr/>
            <p:nvPr/>
          </p:nvSpPr>
          <p:spPr>
            <a:xfrm>
              <a:off x="109440" y="1052640"/>
              <a:ext cx="3742920" cy="713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PARTE INICIAL DE LA PALABRA QUE NOS DICE EL SIGNIFICADO .NO SUELE VARI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10"/>
            <p:cNvSpPr/>
            <p:nvPr/>
          </p:nvSpPr>
          <p:spPr>
            <a:xfrm>
              <a:off x="108000" y="692280"/>
              <a:ext cx="3742920" cy="337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AÍ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6" name="Group 15"/>
          <p:cNvGrpSpPr/>
          <p:nvPr/>
        </p:nvGrpSpPr>
        <p:grpSpPr>
          <a:xfrm>
            <a:off x="4570560" y="765000"/>
            <a:ext cx="4249440" cy="1818720"/>
            <a:chOff x="4570560" y="765000"/>
            <a:chExt cx="4249440" cy="1818720"/>
          </a:xfrm>
        </p:grpSpPr>
        <p:sp>
          <p:nvSpPr>
            <p:cNvPr id="697" name="Text Box 3"/>
            <p:cNvSpPr/>
            <p:nvPr/>
          </p:nvSpPr>
          <p:spPr>
            <a:xfrm>
              <a:off x="4572000" y="1110960"/>
              <a:ext cx="4247640" cy="14727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PARTE CENTRAL DE LA PALABRA QUE PUEDE PONER COMO ÚLTIMA LETRA A LA RAÍZ O PRIMERA DE LA TERMINACIÓN. ES UNA SOLA LETR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 LLAMA TAMBIÉN TEMA A LA RAÍZ TEMÁTICA, ES DECIR, LA RAÍZ MÁSLA DESINENCI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Text Box 11"/>
            <p:cNvSpPr/>
            <p:nvPr/>
          </p:nvSpPr>
          <p:spPr>
            <a:xfrm>
              <a:off x="4570560" y="765000"/>
              <a:ext cx="4249440" cy="337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TE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Group 17"/>
          <p:cNvGrpSpPr/>
          <p:nvPr/>
        </p:nvGrpSpPr>
        <p:grpSpPr>
          <a:xfrm>
            <a:off x="250920" y="3716280"/>
            <a:ext cx="3241440" cy="1363320"/>
            <a:chOff x="250920" y="3716280"/>
            <a:chExt cx="3241440" cy="1363320"/>
          </a:xfrm>
        </p:grpSpPr>
        <p:sp>
          <p:nvSpPr>
            <p:cNvPr id="700" name="Text Box 6"/>
            <p:cNvSpPr/>
            <p:nvPr/>
          </p:nvSpPr>
          <p:spPr>
            <a:xfrm>
              <a:off x="250920" y="4365720"/>
              <a:ext cx="3241440" cy="713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S LA PARTE FINAL DE LA PALABRA ,QUE DICE EL CASO EN EL QUE ESTÁ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12"/>
            <p:cNvSpPr/>
            <p:nvPr/>
          </p:nvSpPr>
          <p:spPr>
            <a:xfrm>
              <a:off x="250920" y="3716280"/>
              <a:ext cx="3241440" cy="337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DESINEN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2" name="Group 18"/>
          <p:cNvGrpSpPr/>
          <p:nvPr/>
        </p:nvGrpSpPr>
        <p:grpSpPr>
          <a:xfrm>
            <a:off x="3994200" y="3530520"/>
            <a:ext cx="5041800" cy="1367280"/>
            <a:chOff x="3994200" y="3530520"/>
            <a:chExt cx="5041800" cy="1367280"/>
          </a:xfrm>
        </p:grpSpPr>
        <p:sp>
          <p:nvSpPr>
            <p:cNvPr id="703" name="Text Box 8"/>
            <p:cNvSpPr/>
            <p:nvPr/>
          </p:nvSpPr>
          <p:spPr>
            <a:xfrm>
              <a:off x="3995640" y="4149360"/>
              <a:ext cx="4969080" cy="74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ES EL TEMA MÁS LA DESINENCI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NOS INDICA LA DECLINACIÓN A QUE PERTENECE LA PALABR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Text Box 13"/>
            <p:cNvSpPr/>
            <p:nvPr/>
          </p:nvSpPr>
          <p:spPr>
            <a:xfrm>
              <a:off x="3994200" y="3530520"/>
              <a:ext cx="5041800" cy="337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TERMIN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3780000" y="907920"/>
            <a:ext cx="3671640" cy="8240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0"/>
          <p:cNvSpPr/>
          <p:nvPr/>
        </p:nvSpPr>
        <p:spPr>
          <a:xfrm>
            <a:off x="142920" y="260280"/>
            <a:ext cx="435780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STRUCTURA DE UN SUSTANTIVO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AutoShape 11"/>
          <p:cNvSpPr/>
          <p:nvPr/>
        </p:nvSpPr>
        <p:spPr>
          <a:xfrm>
            <a:off x="4572000" y="40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2"/>
          <p:cNvSpPr/>
          <p:nvPr/>
        </p:nvSpPr>
        <p:spPr>
          <a:xfrm>
            <a:off x="5076720" y="260280"/>
            <a:ext cx="381636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EJEMPLOS: ROSARUM-DEO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3780000" y="2444760"/>
            <a:ext cx="4248000" cy="13017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ESINANCI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Group 28"/>
          <p:cNvGrpSpPr/>
          <p:nvPr/>
        </p:nvGrpSpPr>
        <p:grpSpPr>
          <a:xfrm>
            <a:off x="250920" y="1413000"/>
            <a:ext cx="3384360" cy="1923120"/>
            <a:chOff x="250920" y="1413000"/>
            <a:chExt cx="3384360" cy="1923120"/>
          </a:xfrm>
        </p:grpSpPr>
        <p:sp>
          <p:nvSpPr>
            <p:cNvPr id="711" name="Text Box 6"/>
            <p:cNvSpPr/>
            <p:nvPr/>
          </p:nvSpPr>
          <p:spPr>
            <a:xfrm>
              <a:off x="250920" y="2133360"/>
              <a:ext cx="2376360" cy="1202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RAÍC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OS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D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Line 19"/>
            <p:cNvSpPr/>
            <p:nvPr/>
          </p:nvSpPr>
          <p:spPr>
            <a:xfrm>
              <a:off x="2987640" y="1413000"/>
              <a:ext cx="0" cy="172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20"/>
            <p:cNvSpPr/>
            <p:nvPr/>
          </p:nvSpPr>
          <p:spPr>
            <a:xfrm>
              <a:off x="2987640" y="141300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987640" y="314136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Line 22"/>
            <p:cNvSpPr/>
            <p:nvPr/>
          </p:nvSpPr>
          <p:spPr>
            <a:xfrm>
              <a:off x="2627280" y="234936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Group 29"/>
          <p:cNvGrpSpPr/>
          <p:nvPr/>
        </p:nvGrpSpPr>
        <p:grpSpPr>
          <a:xfrm>
            <a:off x="179280" y="4941720"/>
            <a:ext cx="4969080" cy="1211760"/>
            <a:chOff x="179280" y="4941720"/>
            <a:chExt cx="4969080" cy="1211760"/>
          </a:xfrm>
        </p:grpSpPr>
        <p:sp>
          <p:nvSpPr>
            <p:cNvPr id="717" name="Text Box 23"/>
            <p:cNvSpPr/>
            <p:nvPr/>
          </p:nvSpPr>
          <p:spPr>
            <a:xfrm>
              <a:off x="179280" y="4941720"/>
              <a:ext cx="489744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AÍZ TEMÁTICA O T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5"/>
            <p:cNvSpPr/>
            <p:nvPr/>
          </p:nvSpPr>
          <p:spPr>
            <a:xfrm>
              <a:off x="179280" y="5383080"/>
              <a:ext cx="4969080" cy="770400"/>
            </a:xfrm>
            <a:prstGeom prst="rect">
              <a:avLst/>
            </a:prstGeom>
            <a:solidFill>
              <a:srgbClr val="99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2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ROS</a:t>
              </a:r>
              <a:r>
                <a:rPr b="1" lang="es-ES" sz="2000" spc="-1" strike="noStrike">
                  <a:solidFill>
                    <a:srgbClr val="ffff00"/>
                  </a:solidFill>
                  <a:latin typeface="Arial"/>
                </a:rPr>
                <a:t>A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12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DE</a:t>
              </a:r>
              <a:r>
                <a:rPr b="1" lang="es-ES" sz="2000" spc="-1" strike="noStrike">
                  <a:solidFill>
                    <a:srgbClr val="ffff00"/>
                  </a:solidFill>
                  <a:latin typeface="Arial"/>
                </a:rPr>
                <a:t>O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9" name="Group 30"/>
          <p:cNvGrpSpPr/>
          <p:nvPr/>
        </p:nvGrpSpPr>
        <p:grpSpPr>
          <a:xfrm>
            <a:off x="5867280" y="4581360"/>
            <a:ext cx="3097440" cy="1672560"/>
            <a:chOff x="5867280" y="4581360"/>
            <a:chExt cx="3097440" cy="1672560"/>
          </a:xfrm>
        </p:grpSpPr>
        <p:sp>
          <p:nvSpPr>
            <p:cNvPr id="720" name="Text Box 26"/>
            <p:cNvSpPr/>
            <p:nvPr/>
          </p:nvSpPr>
          <p:spPr>
            <a:xfrm>
              <a:off x="5867280" y="4581360"/>
              <a:ext cx="302580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TERMINACIÓ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Text Box 27"/>
            <p:cNvSpPr/>
            <p:nvPr/>
          </p:nvSpPr>
          <p:spPr>
            <a:xfrm>
              <a:off x="5867280" y="5348160"/>
              <a:ext cx="3097440" cy="905760"/>
            </a:xfrm>
            <a:prstGeom prst="rect">
              <a:avLst/>
            </a:prstGeom>
            <a:solidFill>
              <a:srgbClr val="99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R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15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R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3851280" y="1197000"/>
            <a:ext cx="3672000" cy="13107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SUSTAN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AD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PRONOMB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VERB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142920" y="260280"/>
            <a:ext cx="4357800" cy="6426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LASIFICACIÓN DE LAS PALABRAS SEGÚN SU ESTRUCTURA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4"/>
          <p:cNvSpPr/>
          <p:nvPr/>
        </p:nvSpPr>
        <p:spPr>
          <a:xfrm>
            <a:off x="4572000" y="40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5076720" y="260280"/>
            <a:ext cx="381636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SI CAMBIAN DE FORMA O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3780000" y="2781360"/>
            <a:ext cx="4248000" cy="163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VARIABL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ADVERB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CONJUN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PREPOSI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Group 7"/>
          <p:cNvGrpSpPr/>
          <p:nvPr/>
        </p:nvGrpSpPr>
        <p:grpSpPr>
          <a:xfrm>
            <a:off x="250920" y="1413000"/>
            <a:ext cx="3384360" cy="1780560"/>
            <a:chOff x="250920" y="1413000"/>
            <a:chExt cx="3384360" cy="1780560"/>
          </a:xfrm>
        </p:grpSpPr>
        <p:sp>
          <p:nvSpPr>
            <p:cNvPr id="728" name="Text Box 8"/>
            <p:cNvSpPr/>
            <p:nvPr/>
          </p:nvSpPr>
          <p:spPr>
            <a:xfrm>
              <a:off x="250920" y="2133720"/>
              <a:ext cx="2376360" cy="105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LAS PALABRAS PUEDEN SER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9"/>
            <p:cNvSpPr/>
            <p:nvPr/>
          </p:nvSpPr>
          <p:spPr>
            <a:xfrm>
              <a:off x="2987640" y="1413000"/>
              <a:ext cx="0" cy="172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Line 10"/>
            <p:cNvSpPr/>
            <p:nvPr/>
          </p:nvSpPr>
          <p:spPr>
            <a:xfrm>
              <a:off x="2987640" y="141300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11"/>
            <p:cNvSpPr/>
            <p:nvPr/>
          </p:nvSpPr>
          <p:spPr>
            <a:xfrm>
              <a:off x="2987640" y="314172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12"/>
            <p:cNvSpPr/>
            <p:nvPr/>
          </p:nvSpPr>
          <p:spPr>
            <a:xfrm>
              <a:off x="2627280" y="234972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Group 13"/>
          <p:cNvGrpSpPr/>
          <p:nvPr/>
        </p:nvGrpSpPr>
        <p:grpSpPr>
          <a:xfrm>
            <a:off x="179280" y="4941720"/>
            <a:ext cx="4969080" cy="1156680"/>
            <a:chOff x="179280" y="4941720"/>
            <a:chExt cx="4969080" cy="1156680"/>
          </a:xfrm>
        </p:grpSpPr>
        <p:sp>
          <p:nvSpPr>
            <p:cNvPr id="734" name="Text Box 14"/>
            <p:cNvSpPr/>
            <p:nvPr/>
          </p:nvSpPr>
          <p:spPr>
            <a:xfrm>
              <a:off x="179280" y="4941720"/>
              <a:ext cx="489744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DECLINACIÓN 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15"/>
            <p:cNvSpPr/>
            <p:nvPr/>
          </p:nvSpPr>
          <p:spPr>
            <a:xfrm>
              <a:off x="179280" y="5383080"/>
              <a:ext cx="4969080" cy="715320"/>
            </a:xfrm>
            <a:prstGeom prst="rect">
              <a:avLst/>
            </a:prstGeom>
            <a:solidFill>
              <a:srgbClr val="99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SUSTANTIVOS, ADJETIVOS Y PRONOMBR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Group 16"/>
          <p:cNvGrpSpPr/>
          <p:nvPr/>
        </p:nvGrpSpPr>
        <p:grpSpPr>
          <a:xfrm>
            <a:off x="5724360" y="4941720"/>
            <a:ext cx="3097440" cy="1171440"/>
            <a:chOff x="5724360" y="4941720"/>
            <a:chExt cx="3097440" cy="1171440"/>
          </a:xfrm>
        </p:grpSpPr>
        <p:sp>
          <p:nvSpPr>
            <p:cNvPr id="737" name="Text Box 17"/>
            <p:cNvSpPr/>
            <p:nvPr/>
          </p:nvSpPr>
          <p:spPr>
            <a:xfrm>
              <a:off x="5724360" y="4941720"/>
              <a:ext cx="302580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ONJUGACIÓN 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18"/>
            <p:cNvSpPr/>
            <p:nvPr/>
          </p:nvSpPr>
          <p:spPr>
            <a:xfrm>
              <a:off x="5724360" y="5708520"/>
              <a:ext cx="3097440" cy="404640"/>
            </a:xfrm>
            <a:prstGeom prst="rect">
              <a:avLst/>
            </a:prstGeom>
            <a:solidFill>
              <a:srgbClr val="99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VERB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6732720" y="1413000"/>
            <a:ext cx="208728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3348000" y="1413000"/>
            <a:ext cx="3384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79280" y="1413000"/>
            <a:ext cx="3168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ECLIN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6732720" y="2041560"/>
            <a:ext cx="208728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3348000" y="2041560"/>
            <a:ext cx="338472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179280" y="2041560"/>
            <a:ext cx="3168720" cy="11001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IMERA DECLINAC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9"/>
          <p:cNvSpPr/>
          <p:nvPr/>
        </p:nvSpPr>
        <p:spPr>
          <a:xfrm>
            <a:off x="179280" y="66168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10"/>
          <p:cNvSpPr/>
          <p:nvPr/>
        </p:nvSpPr>
        <p:spPr>
          <a:xfrm>
            <a:off x="17928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Line 11"/>
          <p:cNvSpPr/>
          <p:nvPr/>
        </p:nvSpPr>
        <p:spPr>
          <a:xfrm>
            <a:off x="334800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Line 12"/>
          <p:cNvSpPr/>
          <p:nvPr/>
        </p:nvSpPr>
        <p:spPr>
          <a:xfrm>
            <a:off x="673272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Line 13"/>
          <p:cNvSpPr/>
          <p:nvPr/>
        </p:nvSpPr>
        <p:spPr>
          <a:xfrm>
            <a:off x="882000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Line 14"/>
          <p:cNvSpPr/>
          <p:nvPr/>
        </p:nvSpPr>
        <p:spPr>
          <a:xfrm>
            <a:off x="179280" y="2060640"/>
            <a:ext cx="864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3708360" y="692280"/>
            <a:ext cx="381636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Se diferencian por SU TEM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AutoShape 16"/>
          <p:cNvSpPr/>
          <p:nvPr/>
        </p:nvSpPr>
        <p:spPr>
          <a:xfrm>
            <a:off x="3203640" y="549360"/>
            <a:ext cx="360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17"/>
          <p:cNvSpPr/>
          <p:nvPr/>
        </p:nvSpPr>
        <p:spPr>
          <a:xfrm>
            <a:off x="1187280" y="0"/>
            <a:ext cx="6624720" cy="398880"/>
          </a:xfrm>
          <a:prstGeom prst="rect">
            <a:avLst/>
          </a:prstGeom>
          <a:solidFill>
            <a:srgbClr val="6666ff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TEMA DE CADA UNA DE LAS DECLIN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18"/>
          <p:cNvSpPr/>
          <p:nvPr/>
        </p:nvSpPr>
        <p:spPr>
          <a:xfrm>
            <a:off x="179280" y="3141720"/>
            <a:ext cx="316872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GU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19"/>
          <p:cNvSpPr/>
          <p:nvPr/>
        </p:nvSpPr>
        <p:spPr>
          <a:xfrm>
            <a:off x="3348000" y="3141720"/>
            <a:ext cx="345744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0"/>
          <p:cNvSpPr/>
          <p:nvPr/>
        </p:nvSpPr>
        <p:spPr>
          <a:xfrm>
            <a:off x="6732720" y="3141720"/>
            <a:ext cx="208728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21"/>
          <p:cNvSpPr/>
          <p:nvPr/>
        </p:nvSpPr>
        <p:spPr>
          <a:xfrm>
            <a:off x="179280" y="3933720"/>
            <a:ext cx="31687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TERC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22"/>
          <p:cNvSpPr/>
          <p:nvPr/>
        </p:nvSpPr>
        <p:spPr>
          <a:xfrm>
            <a:off x="3348000" y="3933720"/>
            <a:ext cx="3384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ONSON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23"/>
          <p:cNvSpPr/>
          <p:nvPr/>
        </p:nvSpPr>
        <p:spPr>
          <a:xfrm>
            <a:off x="6732720" y="3933720"/>
            <a:ext cx="2087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24"/>
          <p:cNvSpPr/>
          <p:nvPr/>
        </p:nvSpPr>
        <p:spPr>
          <a:xfrm>
            <a:off x="179280" y="5157720"/>
            <a:ext cx="316872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25"/>
          <p:cNvSpPr/>
          <p:nvPr/>
        </p:nvSpPr>
        <p:spPr>
          <a:xfrm>
            <a:off x="179280" y="5661000"/>
            <a:ext cx="3168720" cy="93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26"/>
          <p:cNvSpPr/>
          <p:nvPr/>
        </p:nvSpPr>
        <p:spPr>
          <a:xfrm>
            <a:off x="179280" y="4581360"/>
            <a:ext cx="31687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27"/>
          <p:cNvSpPr/>
          <p:nvPr/>
        </p:nvSpPr>
        <p:spPr>
          <a:xfrm>
            <a:off x="3348000" y="4581360"/>
            <a:ext cx="338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8"/>
          <p:cNvSpPr/>
          <p:nvPr/>
        </p:nvSpPr>
        <p:spPr>
          <a:xfrm>
            <a:off x="3348000" y="5229360"/>
            <a:ext cx="3384720" cy="431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29"/>
          <p:cNvSpPr/>
          <p:nvPr/>
        </p:nvSpPr>
        <p:spPr>
          <a:xfrm>
            <a:off x="3348000" y="5661000"/>
            <a:ext cx="338472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30"/>
          <p:cNvSpPr/>
          <p:nvPr/>
        </p:nvSpPr>
        <p:spPr>
          <a:xfrm>
            <a:off x="6732720" y="4581360"/>
            <a:ext cx="208728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31"/>
          <p:cNvSpPr/>
          <p:nvPr/>
        </p:nvSpPr>
        <p:spPr>
          <a:xfrm>
            <a:off x="6732720" y="5229360"/>
            <a:ext cx="208728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L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32"/>
          <p:cNvSpPr/>
          <p:nvPr/>
        </p:nvSpPr>
        <p:spPr>
          <a:xfrm>
            <a:off x="6732720" y="5661000"/>
            <a:ext cx="208728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33"/>
          <p:cNvSpPr/>
          <p:nvPr/>
        </p:nvSpPr>
        <p:spPr>
          <a:xfrm>
            <a:off x="250920" y="692280"/>
            <a:ext cx="27367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DECLIN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10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10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10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6732720" y="1413000"/>
            <a:ext cx="208728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3348000" y="1413000"/>
            <a:ext cx="3384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ENUNCI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179280" y="1413000"/>
            <a:ext cx="3168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ECLIN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6732720" y="2041560"/>
            <a:ext cx="208728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OSA-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3348000" y="2041560"/>
            <a:ext cx="338472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 -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179280" y="2041560"/>
            <a:ext cx="3168720" cy="11001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IMERA DECLINAC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Line 8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Line 9"/>
          <p:cNvSpPr/>
          <p:nvPr/>
        </p:nvSpPr>
        <p:spPr>
          <a:xfrm>
            <a:off x="179280" y="66168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17928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>
            <a:off x="334800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673272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>
            <a:off x="882000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>
            <a:off x="179280" y="2060640"/>
            <a:ext cx="864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5"/>
          <p:cNvSpPr/>
          <p:nvPr/>
        </p:nvSpPr>
        <p:spPr>
          <a:xfrm>
            <a:off x="3708360" y="549360"/>
            <a:ext cx="3816360" cy="580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Se ENUNCIAN CON EL NOMINATIVO Y EL GENITIVO SINGUL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16"/>
          <p:cNvSpPr/>
          <p:nvPr/>
        </p:nvSpPr>
        <p:spPr>
          <a:xfrm>
            <a:off x="3203640" y="549360"/>
            <a:ext cx="360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17"/>
          <p:cNvSpPr/>
          <p:nvPr/>
        </p:nvSpPr>
        <p:spPr>
          <a:xfrm>
            <a:off x="684360" y="0"/>
            <a:ext cx="7632720" cy="398880"/>
          </a:xfrm>
          <a:prstGeom prst="rect">
            <a:avLst/>
          </a:prstGeom>
          <a:solidFill>
            <a:srgbClr val="6666ff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ENUNCIADO DE CADA UNA DE LAS DECLIN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8"/>
          <p:cNvSpPr/>
          <p:nvPr/>
        </p:nvSpPr>
        <p:spPr>
          <a:xfrm>
            <a:off x="179280" y="3141720"/>
            <a:ext cx="316872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GU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19"/>
          <p:cNvSpPr/>
          <p:nvPr/>
        </p:nvSpPr>
        <p:spPr>
          <a:xfrm>
            <a:off x="3348000" y="3141720"/>
            <a:ext cx="3457440" cy="1008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S-I            ER-I         UM-I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20"/>
          <p:cNvSpPr/>
          <p:nvPr/>
        </p:nvSpPr>
        <p:spPr>
          <a:xfrm>
            <a:off x="6732720" y="3141720"/>
            <a:ext cx="208728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MICUS-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21"/>
          <p:cNvSpPr/>
          <p:nvPr/>
        </p:nvSpPr>
        <p:spPr>
          <a:xfrm>
            <a:off x="179280" y="3933720"/>
            <a:ext cx="31687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TERC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2"/>
          <p:cNvSpPr/>
          <p:nvPr/>
        </p:nvSpPr>
        <p:spPr>
          <a:xfrm>
            <a:off x="3348000" y="3933720"/>
            <a:ext cx="3384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VARIABLE-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3"/>
          <p:cNvSpPr/>
          <p:nvPr/>
        </p:nvSpPr>
        <p:spPr>
          <a:xfrm>
            <a:off x="6732720" y="3933720"/>
            <a:ext cx="2087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OR-AMO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4"/>
          <p:cNvSpPr/>
          <p:nvPr/>
        </p:nvSpPr>
        <p:spPr>
          <a:xfrm>
            <a:off x="179280" y="5157720"/>
            <a:ext cx="316872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25"/>
          <p:cNvSpPr/>
          <p:nvPr/>
        </p:nvSpPr>
        <p:spPr>
          <a:xfrm>
            <a:off x="179280" y="5661000"/>
            <a:ext cx="3168720" cy="93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Rectangle 26"/>
          <p:cNvSpPr/>
          <p:nvPr/>
        </p:nvSpPr>
        <p:spPr>
          <a:xfrm>
            <a:off x="179280" y="4581360"/>
            <a:ext cx="31687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27"/>
          <p:cNvSpPr/>
          <p:nvPr/>
        </p:nvSpPr>
        <p:spPr>
          <a:xfrm>
            <a:off x="3348000" y="4581360"/>
            <a:ext cx="338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S-IS       ES-IS         ER-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348000" y="5229360"/>
            <a:ext cx="3384720" cy="431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S-US           U-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3348000" y="5661000"/>
            <a:ext cx="338472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-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732720" y="4581360"/>
            <a:ext cx="208728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IS-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6732720" y="5229360"/>
            <a:ext cx="208728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LU-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6732720" y="5661000"/>
            <a:ext cx="208728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ES-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33"/>
          <p:cNvSpPr/>
          <p:nvPr/>
        </p:nvSpPr>
        <p:spPr>
          <a:xfrm>
            <a:off x="250920" y="692280"/>
            <a:ext cx="27367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DECLIN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10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1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0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-828720" y="-833400"/>
            <a:ext cx="10441080" cy="78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4256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Para distinguir el tema en consonante del tema en –i se cuenta el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número de sílabas del nominativo y el genitivo</a:t>
            </a: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 del enunc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solidFill>
            <a:srgbClr val="ff9900">
              <a:alpha val="48000"/>
            </a:srgbClr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Si es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mparisílabo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, es tema en consonante. </a:t>
            </a: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Ej. Miles mi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La consonante del tema es la última letra de la raíz. 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Ej. Milit-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Cuando la raíz acaba en –r puede ser un tema en –s o en –r. 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Ej. Amor a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Es tema en –s , si el nominativo acaba en –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s.Ej. Honos honoris</a:t>
            </a: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Si es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isílabo,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 es tema en –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Ej.navis n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35880" cy="1417680"/>
          </a:xfrm>
          <a:prstGeom prst="rect">
            <a:avLst/>
          </a:prstGeom>
          <a:solidFill>
            <a:srgbClr val="333399">
              <a:alpha val="4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be0e3"/>
                </a:solidFill>
                <a:latin typeface="Arial"/>
              </a:rPr>
              <a:t>PARA DISTINGUIR LA CONSONANTE DEL TEMA EN LOS TEMAS EN CONSONANTE DE LA TERCERA DECL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128760"/>
          </a:xfrm>
          <a:prstGeom prst="rect">
            <a:avLst/>
          </a:prstGeom>
          <a:solidFill>
            <a:srgbClr val="ff00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QUITAMOS LA TERMINACIÓN DEL GENITIVO 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:AMOR-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Y EL TEMA SERÁ LA ÚLTIMA LETRA DE LA RAÍZ: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LOS TEMAS EN CONSONANTES SON LOS ÚNICOS QUE DEJAN EL TEMA EN LA RAÍZ, LOS DEMÁS LO LLEVAN EN LA PRIMERA LETRA DE LA TERMINACIÓN : 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MAN-US SERÍA TEMA EN –U DE LA CUARTA DECL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solidFill>
            <a:srgbClr val="333399">
              <a:alpha val="4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bbe0e3"/>
                </a:solidFill>
                <a:latin typeface="Arial"/>
              </a:rPr>
              <a:t>PARA DISTINGUIR UN  TEMA EN –R- DE OTRO EN –S-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128760"/>
          </a:xfrm>
          <a:prstGeom prst="rect">
            <a:avLst/>
          </a:prstGeom>
          <a:solidFill>
            <a:srgbClr val="ff00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LOS DOS TIENEN LA RAÍZ ACABADA EN –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EJEMPLO: HONOS HONOR-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AMOR AMOR-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ERO EL TEMA EN –S- ACABARA EN –S EN EL NOMINATIVO SINGULAR Y EL TEMA EN –R- ACABARÁ EN –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AM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HON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9684360" cy="6857640"/>
            <a:chOff x="0" y="0"/>
            <a:chExt cx="9684360" cy="6857640"/>
          </a:xfrm>
        </p:grpSpPr>
        <p:sp>
          <p:nvSpPr>
            <p:cNvPr id="571" name="AutoShape 3"/>
            <p:cNvSpPr/>
            <p:nvPr/>
          </p:nvSpPr>
          <p:spPr>
            <a:xfrm>
              <a:off x="0" y="0"/>
              <a:ext cx="967680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4"/>
            <p:cNvSpPr/>
            <p:nvPr/>
          </p:nvSpPr>
          <p:spPr>
            <a:xfrm>
              <a:off x="988920" y="1180440"/>
              <a:ext cx="2896920" cy="169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3" name="Group 5"/>
            <p:cNvGrpSpPr/>
            <p:nvPr/>
          </p:nvGrpSpPr>
          <p:grpSpPr>
            <a:xfrm>
              <a:off x="1921680" y="0"/>
              <a:ext cx="7762680" cy="5499000"/>
              <a:chOff x="1921680" y="0"/>
              <a:chExt cx="7762680" cy="5499000"/>
            </a:xfrm>
          </p:grpSpPr>
          <p:sp>
            <p:nvSpPr>
              <p:cNvPr id="574" name="Freeform 6"/>
              <p:cNvSpPr/>
              <p:nvPr/>
            </p:nvSpPr>
            <p:spPr>
              <a:xfrm>
                <a:off x="2037960" y="36000"/>
                <a:ext cx="7583760" cy="54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7"/>
              <p:cNvSpPr/>
              <p:nvPr/>
            </p:nvSpPr>
            <p:spPr>
              <a:xfrm>
                <a:off x="1921680" y="0"/>
                <a:ext cx="7762680" cy="54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8"/>
            <p:cNvGrpSpPr/>
            <p:nvPr/>
          </p:nvGrpSpPr>
          <p:grpSpPr>
            <a:xfrm>
              <a:off x="5760" y="1062360"/>
              <a:ext cx="2955240" cy="5794920"/>
              <a:chOff x="5760" y="1062360"/>
              <a:chExt cx="2955240" cy="5794920"/>
            </a:xfrm>
          </p:grpSpPr>
          <p:sp>
            <p:nvSpPr>
              <p:cNvPr id="577" name="Freeform 9"/>
              <p:cNvSpPr/>
              <p:nvPr/>
            </p:nvSpPr>
            <p:spPr>
              <a:xfrm>
                <a:off x="5760" y="1062360"/>
                <a:ext cx="1686240" cy="125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10"/>
              <p:cNvSpPr/>
              <p:nvPr/>
            </p:nvSpPr>
            <p:spPr>
              <a:xfrm>
                <a:off x="606600" y="2513520"/>
                <a:ext cx="1371240" cy="197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11"/>
              <p:cNvSpPr/>
              <p:nvPr/>
            </p:nvSpPr>
            <p:spPr>
              <a:xfrm>
                <a:off x="861480" y="2402280"/>
                <a:ext cx="2099520" cy="1505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12"/>
              <p:cNvSpPr/>
              <p:nvPr/>
            </p:nvSpPr>
            <p:spPr>
              <a:xfrm>
                <a:off x="1391040" y="4077000"/>
                <a:ext cx="1465200" cy="248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13"/>
              <p:cNvSpPr/>
              <p:nvPr/>
            </p:nvSpPr>
            <p:spPr>
              <a:xfrm>
                <a:off x="574920" y="4061160"/>
                <a:ext cx="893160" cy="2796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Freeform 14"/>
            <p:cNvSpPr/>
            <p:nvPr/>
          </p:nvSpPr>
          <p:spPr>
            <a:xfrm>
              <a:off x="3423960" y="1212480"/>
              <a:ext cx="521640" cy="40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3" name="Text Box 15"/>
          <p:cNvSpPr/>
          <p:nvPr/>
        </p:nvSpPr>
        <p:spPr>
          <a:xfrm>
            <a:off x="3490920" y="981000"/>
            <a:ext cx="56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LA SINTAXIS 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2916360" y="177336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SINTAXIS SE OCUPA DE LA ORA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S FUNCIONES DE LAS PALABRAS EN E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STUDI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   LA ESTRUCTURA DE LAS OR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ORDEN DE LAS PALABRAS EN LA ORACIÓ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FUNCIONES DE LAS PALAB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A continuación, veremos el género, para saber sí  es neut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El género neutro puede reconocerse mirando el </a:t>
            </a:r>
            <a:r>
              <a:rPr b="0" lang="es-ES" sz="3200" spc="-1" strike="noStrike">
                <a:solidFill>
                  <a:srgbClr val="ff9933"/>
                </a:solidFill>
                <a:latin typeface="Arial"/>
              </a:rPr>
              <a:t>nominativo singular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 en el enunci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971640" y="3716280"/>
          <a:ext cx="7056360" cy="1959120"/>
        </p:xfrm>
        <a:graphic>
          <a:graphicData uri="http://schemas.openxmlformats.org/drawingml/2006/table">
            <a:tbl>
              <a:tblPr/>
              <a:tblGrid>
                <a:gridCol w="1935000"/>
                <a:gridCol w="1471680"/>
                <a:gridCol w="1471680"/>
                <a:gridCol w="1239840"/>
                <a:gridCol w="93816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ª decli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tema -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tema -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en -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ª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1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2120" y="1644120"/>
            <a:ext cx="77724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ORFOLOGÍA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>
            <a:hlinkClick r:id="" action="ppaction://hlinkshowjump?jump=nextslide"/>
          </p:cNvPr>
          <p:cNvSpPr/>
          <p:nvPr/>
        </p:nvSpPr>
        <p:spPr>
          <a:xfrm>
            <a:off x="7772400" y="49528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1295280" y="22860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81d08"/>
                </a:solidFill>
                <a:latin typeface="Verdana"/>
              </a:rPr>
              <a:t>DELEV-ERA-M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3"/>
          <p:cNvSpPr/>
          <p:nvPr/>
        </p:nvSpPr>
        <p:spPr>
          <a:xfrm>
            <a:off x="2286000" y="30481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4" name="Group 4"/>
          <p:cNvGrpSpPr/>
          <p:nvPr/>
        </p:nvGrpSpPr>
        <p:grpSpPr>
          <a:xfrm>
            <a:off x="762120" y="3124080"/>
            <a:ext cx="3124080" cy="1526760"/>
            <a:chOff x="762120" y="3124080"/>
            <a:chExt cx="3124080" cy="1526760"/>
          </a:xfrm>
        </p:grpSpPr>
        <p:sp>
          <p:nvSpPr>
            <p:cNvPr id="825" name="Line 5"/>
            <p:cNvSpPr/>
            <p:nvPr/>
          </p:nvSpPr>
          <p:spPr>
            <a:xfrm flipH="1">
              <a:off x="2057400" y="3124080"/>
              <a:ext cx="5335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6"/>
            <p:cNvSpPr/>
            <p:nvPr/>
          </p:nvSpPr>
          <p:spPr>
            <a:xfrm>
              <a:off x="762120" y="4191120"/>
              <a:ext cx="31240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9999"/>
                  </a:solidFill>
                  <a:latin typeface="Verdana"/>
                </a:rPr>
                <a:t>LA RAÍZ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7" name="Line 7"/>
          <p:cNvSpPr/>
          <p:nvPr/>
        </p:nvSpPr>
        <p:spPr>
          <a:xfrm>
            <a:off x="5867280" y="30481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8" name="Group 8"/>
          <p:cNvGrpSpPr/>
          <p:nvPr/>
        </p:nvGrpSpPr>
        <p:grpSpPr>
          <a:xfrm>
            <a:off x="5943600" y="3200400"/>
            <a:ext cx="2819520" cy="1816200"/>
            <a:chOff x="5943600" y="3200400"/>
            <a:chExt cx="2819520" cy="1816200"/>
          </a:xfrm>
        </p:grpSpPr>
        <p:sp>
          <p:nvSpPr>
            <p:cNvPr id="829" name="Line 9"/>
            <p:cNvSpPr/>
            <p:nvPr/>
          </p:nvSpPr>
          <p:spPr>
            <a:xfrm>
              <a:off x="6553080" y="320040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Text Box 10"/>
            <p:cNvSpPr/>
            <p:nvPr/>
          </p:nvSpPr>
          <p:spPr>
            <a:xfrm>
              <a:off x="5943600" y="4191120"/>
              <a:ext cx="28195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9999"/>
                  </a:solidFill>
                  <a:latin typeface="Verdana"/>
                </a:rPr>
                <a:t>LAS DESINENCIAS PERSONA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Line 11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Group 12"/>
          <p:cNvGrpSpPr/>
          <p:nvPr/>
        </p:nvGrpSpPr>
        <p:grpSpPr>
          <a:xfrm>
            <a:off x="2057400" y="3200400"/>
            <a:ext cx="3733920" cy="2882880"/>
            <a:chOff x="2057400" y="3200400"/>
            <a:chExt cx="3733920" cy="2882880"/>
          </a:xfrm>
        </p:grpSpPr>
        <p:sp>
          <p:nvSpPr>
            <p:cNvPr id="833" name="Line 13"/>
            <p:cNvSpPr/>
            <p:nvPr/>
          </p:nvSpPr>
          <p:spPr>
            <a:xfrm>
              <a:off x="4724280" y="32004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Text Box 14"/>
            <p:cNvSpPr/>
            <p:nvPr/>
          </p:nvSpPr>
          <p:spPr>
            <a:xfrm>
              <a:off x="2057400" y="5257800"/>
              <a:ext cx="3733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9999"/>
                  </a:solidFill>
                  <a:latin typeface="Verdana"/>
                </a:rPr>
                <a:t>LA CARACTERÍSTICA TEMPORAL MODA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Text Box 19"/>
          <p:cNvSpPr/>
          <p:nvPr/>
        </p:nvSpPr>
        <p:spPr>
          <a:xfrm>
            <a:off x="1692360" y="765000"/>
            <a:ext cx="640872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Arial"/>
              </a:rPr>
              <a:t>ESTRUCTURA DE LAS FORMAS VERB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Para analizar una forma verbal debemos partir siempre del enunciado del ver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El primer paso es determinar la conjugación a la que pertenece el verb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980640" y="671400"/>
            <a:ext cx="8163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Determinar la conju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137304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5"/>
          <p:cNvGrpSpPr/>
          <p:nvPr/>
        </p:nvGrpSpPr>
        <p:grpSpPr>
          <a:xfrm>
            <a:off x="2124000" y="2852640"/>
            <a:ext cx="6695640" cy="2117880"/>
            <a:chOff x="2124000" y="2852640"/>
            <a:chExt cx="6695640" cy="2117880"/>
          </a:xfrm>
        </p:grpSpPr>
        <p:grpSp>
          <p:nvGrpSpPr>
            <p:cNvPr id="840" name="Group 6"/>
            <p:cNvGrpSpPr/>
            <p:nvPr/>
          </p:nvGrpSpPr>
          <p:grpSpPr>
            <a:xfrm>
              <a:off x="2133000" y="2854800"/>
              <a:ext cx="6676200" cy="2112840"/>
              <a:chOff x="2133000" y="2854800"/>
              <a:chExt cx="6676200" cy="2112840"/>
            </a:xfrm>
          </p:grpSpPr>
          <p:grpSp>
            <p:nvGrpSpPr>
              <p:cNvPr id="841" name="Group 7"/>
              <p:cNvGrpSpPr/>
              <p:nvPr/>
            </p:nvGrpSpPr>
            <p:grpSpPr>
              <a:xfrm>
                <a:off x="2133000" y="2854800"/>
                <a:ext cx="864720" cy="422280"/>
                <a:chOff x="2133000" y="2854800"/>
                <a:chExt cx="864720" cy="422280"/>
              </a:xfrm>
            </p:grpSpPr>
            <p:sp>
              <p:nvSpPr>
                <p:cNvPr id="842" name="Rectangle 8"/>
                <p:cNvSpPr/>
                <p:nvPr/>
              </p:nvSpPr>
              <p:spPr>
                <a:xfrm>
                  <a:off x="2133000" y="2855520"/>
                  <a:ext cx="864720" cy="4215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9"/>
                <p:cNvGrpSpPr/>
                <p:nvPr/>
              </p:nvGrpSpPr>
              <p:grpSpPr>
                <a:xfrm>
                  <a:off x="2133000" y="2854800"/>
                  <a:ext cx="864360" cy="421200"/>
                  <a:chOff x="2133000" y="2854800"/>
                  <a:chExt cx="864360" cy="421200"/>
                </a:xfrm>
              </p:grpSpPr>
              <p:sp>
                <p:nvSpPr>
                  <p:cNvPr id="844" name="Rectangle 10"/>
                  <p:cNvSpPr/>
                  <p:nvPr/>
                </p:nvSpPr>
                <p:spPr>
                  <a:xfrm>
                    <a:off x="2133000" y="2854800"/>
                    <a:ext cx="864360" cy="42012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Rectangle 11"/>
                  <p:cNvSpPr/>
                  <p:nvPr/>
                </p:nvSpPr>
                <p:spPr>
                  <a:xfrm>
                    <a:off x="2133000" y="2855520"/>
                    <a:ext cx="864360" cy="42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6" name="Group 12"/>
              <p:cNvGrpSpPr/>
              <p:nvPr/>
            </p:nvGrpSpPr>
            <p:grpSpPr>
              <a:xfrm>
                <a:off x="2998080" y="2854800"/>
                <a:ext cx="5811120" cy="422280"/>
                <a:chOff x="2998080" y="2854800"/>
                <a:chExt cx="5811120" cy="422280"/>
              </a:xfrm>
            </p:grpSpPr>
            <p:sp>
              <p:nvSpPr>
                <p:cNvPr id="847" name="Rectangle 13"/>
                <p:cNvSpPr/>
                <p:nvPr/>
              </p:nvSpPr>
              <p:spPr>
                <a:xfrm>
                  <a:off x="2998080" y="2855520"/>
                  <a:ext cx="5811120" cy="4215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8" name="Group 14"/>
                <p:cNvGrpSpPr/>
                <p:nvPr/>
              </p:nvGrpSpPr>
              <p:grpSpPr>
                <a:xfrm>
                  <a:off x="2998080" y="2854800"/>
                  <a:ext cx="5810760" cy="421200"/>
                  <a:chOff x="2998080" y="2854800"/>
                  <a:chExt cx="5810760" cy="421200"/>
                </a:xfrm>
              </p:grpSpPr>
              <p:sp>
                <p:nvSpPr>
                  <p:cNvPr id="849" name="Rectangle 15"/>
                  <p:cNvSpPr/>
                  <p:nvPr/>
                </p:nvSpPr>
                <p:spPr>
                  <a:xfrm>
                    <a:off x="2998080" y="2854800"/>
                    <a:ext cx="5810760" cy="42012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m</a:t>
                    </a:r>
                    <a:r>
                      <a:rPr b="0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0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a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-avi, -atu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Rectangle 16"/>
                  <p:cNvSpPr/>
                  <p:nvPr/>
                </p:nvSpPr>
                <p:spPr>
                  <a:xfrm>
                    <a:off x="2998080" y="2855520"/>
                    <a:ext cx="5810760" cy="42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1" name="Group 17"/>
              <p:cNvGrpSpPr/>
              <p:nvPr/>
            </p:nvGrpSpPr>
            <p:grpSpPr>
              <a:xfrm>
                <a:off x="2133000" y="3277080"/>
                <a:ext cx="864720" cy="421920"/>
                <a:chOff x="2133000" y="3277080"/>
                <a:chExt cx="864720" cy="421920"/>
              </a:xfrm>
            </p:grpSpPr>
            <p:sp>
              <p:nvSpPr>
                <p:cNvPr id="852" name="Rectangle 18"/>
                <p:cNvSpPr/>
                <p:nvPr/>
              </p:nvSpPr>
              <p:spPr>
                <a:xfrm>
                  <a:off x="2133000" y="3277800"/>
                  <a:ext cx="864720" cy="42120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3" name="Group 19"/>
                <p:cNvGrpSpPr/>
                <p:nvPr/>
              </p:nvGrpSpPr>
              <p:grpSpPr>
                <a:xfrm>
                  <a:off x="2133000" y="3277080"/>
                  <a:ext cx="864360" cy="420840"/>
                  <a:chOff x="2133000" y="3277080"/>
                  <a:chExt cx="864360" cy="420840"/>
                </a:xfrm>
              </p:grpSpPr>
              <p:sp>
                <p:nvSpPr>
                  <p:cNvPr id="854" name="Rectangle 20"/>
                  <p:cNvSpPr/>
                  <p:nvPr/>
                </p:nvSpPr>
                <p:spPr>
                  <a:xfrm>
                    <a:off x="2133000" y="3277080"/>
                    <a:ext cx="864360" cy="42012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Rectangle 21"/>
                  <p:cNvSpPr/>
                  <p:nvPr/>
                </p:nvSpPr>
                <p:spPr>
                  <a:xfrm>
                    <a:off x="2133000" y="3277800"/>
                    <a:ext cx="864360" cy="420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6" name="Group 22"/>
              <p:cNvGrpSpPr/>
              <p:nvPr/>
            </p:nvGrpSpPr>
            <p:grpSpPr>
              <a:xfrm>
                <a:off x="2998080" y="3277080"/>
                <a:ext cx="5811120" cy="421920"/>
                <a:chOff x="2998080" y="3277080"/>
                <a:chExt cx="5811120" cy="421920"/>
              </a:xfrm>
            </p:grpSpPr>
            <p:sp>
              <p:nvSpPr>
                <p:cNvPr id="857" name="Rectangle 23"/>
                <p:cNvSpPr/>
                <p:nvPr/>
              </p:nvSpPr>
              <p:spPr>
                <a:xfrm>
                  <a:off x="2998080" y="3277800"/>
                  <a:ext cx="5811120" cy="4212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8" name="Group 24"/>
                <p:cNvGrpSpPr/>
                <p:nvPr/>
              </p:nvGrpSpPr>
              <p:grpSpPr>
                <a:xfrm>
                  <a:off x="2998080" y="3277080"/>
                  <a:ext cx="5810760" cy="420840"/>
                  <a:chOff x="2998080" y="3277080"/>
                  <a:chExt cx="5810760" cy="420840"/>
                </a:xfrm>
              </p:grpSpPr>
              <p:sp>
                <p:nvSpPr>
                  <p:cNvPr id="859" name="Rectangle 25"/>
                  <p:cNvSpPr/>
                  <p:nvPr/>
                </p:nvSpPr>
                <p:spPr>
                  <a:xfrm>
                    <a:off x="2998080" y="3277080"/>
                    <a:ext cx="5810760" cy="420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bbe0e3"/>
                        </a:solidFill>
                        <a:latin typeface="Times New Roman"/>
                      </a:rPr>
                      <a:t>hab</a:t>
                    </a:r>
                    <a:r>
                      <a:rPr b="1" lang="es-ES" sz="2400" spc="-1" strike="noStrike">
                        <a:solidFill>
                          <a:srgbClr val="bbe0e3"/>
                        </a:solidFill>
                        <a:latin typeface="Times New Roman"/>
                      </a:rPr>
                      <a:t>e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o</a:t>
                    </a:r>
                    <a:r>
                      <a:rPr b="0" lang="es-ES" sz="2400" spc="-1" strike="noStrike">
                        <a:solidFill>
                          <a:srgbClr val="bbe0e3"/>
                        </a:solidFill>
                        <a:latin typeface="Times New Roman"/>
                      </a:rPr>
                      <a:t>,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es, 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ui, habitu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Rectangle 26"/>
                  <p:cNvSpPr/>
                  <p:nvPr/>
                </p:nvSpPr>
                <p:spPr>
                  <a:xfrm>
                    <a:off x="2998080" y="3277800"/>
                    <a:ext cx="5810760" cy="420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1" name="Group 27"/>
              <p:cNvGrpSpPr/>
              <p:nvPr/>
            </p:nvGrpSpPr>
            <p:grpSpPr>
              <a:xfrm>
                <a:off x="2133000" y="3699720"/>
                <a:ext cx="864720" cy="422640"/>
                <a:chOff x="2133000" y="3699720"/>
                <a:chExt cx="864720" cy="422640"/>
              </a:xfrm>
            </p:grpSpPr>
            <p:sp>
              <p:nvSpPr>
                <p:cNvPr id="862" name="Rectangle 28"/>
                <p:cNvSpPr/>
                <p:nvPr/>
              </p:nvSpPr>
              <p:spPr>
                <a:xfrm>
                  <a:off x="2133000" y="3699720"/>
                  <a:ext cx="864720" cy="4226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Group 29"/>
                <p:cNvGrpSpPr/>
                <p:nvPr/>
              </p:nvGrpSpPr>
              <p:grpSpPr>
                <a:xfrm>
                  <a:off x="2133000" y="3699720"/>
                  <a:ext cx="864360" cy="422640"/>
                  <a:chOff x="2133000" y="3699720"/>
                  <a:chExt cx="864360" cy="422640"/>
                </a:xfrm>
              </p:grpSpPr>
              <p:sp>
                <p:nvSpPr>
                  <p:cNvPr id="864" name="Rectangle 30"/>
                  <p:cNvSpPr/>
                  <p:nvPr/>
                </p:nvSpPr>
                <p:spPr>
                  <a:xfrm>
                    <a:off x="2133000" y="3699720"/>
                    <a:ext cx="864360" cy="4226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Rectangle 31"/>
                  <p:cNvSpPr/>
                  <p:nvPr/>
                </p:nvSpPr>
                <p:spPr>
                  <a:xfrm>
                    <a:off x="2133000" y="3699720"/>
                    <a:ext cx="864360" cy="42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6" name="Group 32"/>
              <p:cNvGrpSpPr/>
              <p:nvPr/>
            </p:nvGrpSpPr>
            <p:grpSpPr>
              <a:xfrm>
                <a:off x="2998080" y="3699720"/>
                <a:ext cx="5811120" cy="422640"/>
                <a:chOff x="2998080" y="3699720"/>
                <a:chExt cx="5811120" cy="422640"/>
              </a:xfrm>
            </p:grpSpPr>
            <p:sp>
              <p:nvSpPr>
                <p:cNvPr id="867" name="Rectangle 33"/>
                <p:cNvSpPr/>
                <p:nvPr/>
              </p:nvSpPr>
              <p:spPr>
                <a:xfrm>
                  <a:off x="2998080" y="3699720"/>
                  <a:ext cx="5811120" cy="42264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8" name="Group 34"/>
                <p:cNvGrpSpPr/>
                <p:nvPr/>
              </p:nvGrpSpPr>
              <p:grpSpPr>
                <a:xfrm>
                  <a:off x="2998080" y="3699720"/>
                  <a:ext cx="5810760" cy="422640"/>
                  <a:chOff x="2998080" y="3699720"/>
                  <a:chExt cx="5810760" cy="422640"/>
                </a:xfrm>
              </p:grpSpPr>
              <p:sp>
                <p:nvSpPr>
                  <p:cNvPr id="869" name="Rectangle 35"/>
                  <p:cNvSpPr/>
                  <p:nvPr/>
                </p:nvSpPr>
                <p:spPr>
                  <a:xfrm>
                    <a:off x="2998080" y="3699720"/>
                    <a:ext cx="5810760" cy="42264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</a:t>
                    </a:r>
                    <a:r>
                      <a:rPr b="0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s, 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rexi, rectu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Rectangle 36"/>
                  <p:cNvSpPr/>
                  <p:nvPr/>
                </p:nvSpPr>
                <p:spPr>
                  <a:xfrm>
                    <a:off x="2998080" y="3699720"/>
                    <a:ext cx="5810760" cy="42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1" name="Group 37"/>
              <p:cNvGrpSpPr/>
              <p:nvPr/>
            </p:nvGrpSpPr>
            <p:grpSpPr>
              <a:xfrm>
                <a:off x="2133000" y="4122720"/>
                <a:ext cx="864720" cy="422280"/>
                <a:chOff x="2133000" y="4122720"/>
                <a:chExt cx="864720" cy="422280"/>
              </a:xfrm>
            </p:grpSpPr>
            <p:sp>
              <p:nvSpPr>
                <p:cNvPr id="872" name="Rectangle 38"/>
                <p:cNvSpPr/>
                <p:nvPr/>
              </p:nvSpPr>
              <p:spPr>
                <a:xfrm>
                  <a:off x="2133000" y="4122720"/>
                  <a:ext cx="864720" cy="42228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3" name="Group 39"/>
                <p:cNvGrpSpPr/>
                <p:nvPr/>
              </p:nvGrpSpPr>
              <p:grpSpPr>
                <a:xfrm>
                  <a:off x="2133000" y="4122720"/>
                  <a:ext cx="864360" cy="422280"/>
                  <a:chOff x="2133000" y="4122720"/>
                  <a:chExt cx="864360" cy="422280"/>
                </a:xfrm>
              </p:grpSpPr>
              <p:sp>
                <p:nvSpPr>
                  <p:cNvPr id="874" name="Rectangle 40"/>
                  <p:cNvSpPr/>
                  <p:nvPr/>
                </p:nvSpPr>
                <p:spPr>
                  <a:xfrm>
                    <a:off x="2133000" y="4122720"/>
                    <a:ext cx="864360" cy="42228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Rectangle 41"/>
                  <p:cNvSpPr/>
                  <p:nvPr/>
                </p:nvSpPr>
                <p:spPr>
                  <a:xfrm>
                    <a:off x="2133000" y="4122720"/>
                    <a:ext cx="864360" cy="42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Group 42"/>
              <p:cNvGrpSpPr/>
              <p:nvPr/>
            </p:nvGrpSpPr>
            <p:grpSpPr>
              <a:xfrm>
                <a:off x="2998080" y="4122720"/>
                <a:ext cx="5811120" cy="422280"/>
                <a:chOff x="2998080" y="4122720"/>
                <a:chExt cx="5811120" cy="422280"/>
              </a:xfrm>
            </p:grpSpPr>
            <p:sp>
              <p:nvSpPr>
                <p:cNvPr id="877" name="Rectangle 43"/>
                <p:cNvSpPr/>
                <p:nvPr/>
              </p:nvSpPr>
              <p:spPr>
                <a:xfrm>
                  <a:off x="2998080" y="4122720"/>
                  <a:ext cx="5811120" cy="4222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Group 44"/>
                <p:cNvGrpSpPr/>
                <p:nvPr/>
              </p:nvGrpSpPr>
              <p:grpSpPr>
                <a:xfrm>
                  <a:off x="2998080" y="4122720"/>
                  <a:ext cx="5810760" cy="422280"/>
                  <a:chOff x="2998080" y="4122720"/>
                  <a:chExt cx="5810760" cy="422280"/>
                </a:xfrm>
              </p:grpSpPr>
              <p:sp>
                <p:nvSpPr>
                  <p:cNvPr id="879" name="Rectangle 45"/>
                  <p:cNvSpPr/>
                  <p:nvPr/>
                </p:nvSpPr>
                <p:spPr>
                  <a:xfrm>
                    <a:off x="2998080" y="4122720"/>
                    <a:ext cx="5810760" cy="4222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ud</a:t>
                    </a:r>
                    <a:r>
                      <a:rPr b="0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-ivi, -itu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Rectangle 46"/>
                  <p:cNvSpPr/>
                  <p:nvPr/>
                </p:nvSpPr>
                <p:spPr>
                  <a:xfrm>
                    <a:off x="2998080" y="4122720"/>
                    <a:ext cx="5810760" cy="42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1" name="Group 47"/>
              <p:cNvGrpSpPr/>
              <p:nvPr/>
            </p:nvGrpSpPr>
            <p:grpSpPr>
              <a:xfrm>
                <a:off x="2133000" y="4545360"/>
                <a:ext cx="864720" cy="422280"/>
                <a:chOff x="2133000" y="4545360"/>
                <a:chExt cx="864720" cy="422280"/>
              </a:xfrm>
            </p:grpSpPr>
            <p:sp>
              <p:nvSpPr>
                <p:cNvPr id="882" name="Rectangle 48"/>
                <p:cNvSpPr/>
                <p:nvPr/>
              </p:nvSpPr>
              <p:spPr>
                <a:xfrm>
                  <a:off x="2133000" y="4545360"/>
                  <a:ext cx="864720" cy="4215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Group 49"/>
                <p:cNvGrpSpPr/>
                <p:nvPr/>
              </p:nvGrpSpPr>
              <p:grpSpPr>
                <a:xfrm>
                  <a:off x="2133000" y="4546080"/>
                  <a:ext cx="864360" cy="421560"/>
                  <a:chOff x="2133000" y="4546080"/>
                  <a:chExt cx="864360" cy="421560"/>
                </a:xfrm>
              </p:grpSpPr>
              <p:sp>
                <p:nvSpPr>
                  <p:cNvPr id="884" name="Rectangle 50"/>
                  <p:cNvSpPr/>
                  <p:nvPr/>
                </p:nvSpPr>
                <p:spPr>
                  <a:xfrm>
                    <a:off x="2133000" y="4546800"/>
                    <a:ext cx="864360" cy="4208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Rectangle 51"/>
                  <p:cNvSpPr/>
                  <p:nvPr/>
                </p:nvSpPr>
                <p:spPr>
                  <a:xfrm>
                    <a:off x="2133000" y="4546080"/>
                    <a:ext cx="864360" cy="420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6" name="Group 52"/>
              <p:cNvGrpSpPr/>
              <p:nvPr/>
            </p:nvGrpSpPr>
            <p:grpSpPr>
              <a:xfrm>
                <a:off x="2998080" y="4545360"/>
                <a:ext cx="5811120" cy="422280"/>
                <a:chOff x="2998080" y="4545360"/>
                <a:chExt cx="5811120" cy="422280"/>
              </a:xfrm>
            </p:grpSpPr>
            <p:sp>
              <p:nvSpPr>
                <p:cNvPr id="887" name="Rectangle 53"/>
                <p:cNvSpPr/>
                <p:nvPr/>
              </p:nvSpPr>
              <p:spPr>
                <a:xfrm>
                  <a:off x="2998080" y="4545360"/>
                  <a:ext cx="5811120" cy="4215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8" name="Group 54"/>
                <p:cNvGrpSpPr/>
                <p:nvPr/>
              </p:nvGrpSpPr>
              <p:grpSpPr>
                <a:xfrm>
                  <a:off x="2998080" y="4546080"/>
                  <a:ext cx="5810760" cy="421560"/>
                  <a:chOff x="2998080" y="4546080"/>
                  <a:chExt cx="5810760" cy="421560"/>
                </a:xfrm>
              </p:grpSpPr>
              <p:sp>
                <p:nvSpPr>
                  <p:cNvPr id="889" name="Rectangle 55"/>
                  <p:cNvSpPr/>
                  <p:nvPr/>
                </p:nvSpPr>
                <p:spPr>
                  <a:xfrm>
                    <a:off x="2998080" y="4546800"/>
                    <a:ext cx="5810760" cy="42084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epi, captu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Rectangle 56"/>
                  <p:cNvSpPr/>
                  <p:nvPr/>
                </p:nvSpPr>
                <p:spPr>
                  <a:xfrm>
                    <a:off x="2998080" y="4546080"/>
                    <a:ext cx="5810760" cy="420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91" name="Rectangle 57"/>
            <p:cNvSpPr/>
            <p:nvPr/>
          </p:nvSpPr>
          <p:spPr>
            <a:xfrm>
              <a:off x="2124000" y="2852640"/>
              <a:ext cx="6695640" cy="2117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Text Box 58"/>
          <p:cNvSpPr/>
          <p:nvPr/>
        </p:nvSpPr>
        <p:spPr>
          <a:xfrm>
            <a:off x="539640" y="5084640"/>
            <a:ext cx="7467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Verdana"/>
              </a:rPr>
              <a:t>Tendremos en cuenta para determinar la conjugación las características que aparecen en color amarillo en cada enunci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3" name="Group 59"/>
          <p:cNvGrpSpPr/>
          <p:nvPr/>
        </p:nvGrpSpPr>
        <p:grpSpPr>
          <a:xfrm>
            <a:off x="7010280" y="5867280"/>
            <a:ext cx="1652760" cy="662040"/>
            <a:chOff x="7010280" y="5867280"/>
            <a:chExt cx="1652760" cy="662040"/>
          </a:xfrm>
        </p:grpSpPr>
        <p:sp>
          <p:nvSpPr>
            <p:cNvPr id="894" name="AutoShape 60">
              <a:hlinkClick r:id="" action="ppaction://hlinkshowjump?jump=nextslide"/>
            </p:cNvPr>
            <p:cNvSpPr/>
            <p:nvPr/>
          </p:nvSpPr>
          <p:spPr>
            <a:xfrm>
              <a:off x="7924680" y="5867280"/>
              <a:ext cx="738360" cy="662040"/>
            </a:xfrm>
            <a:custGeom>
              <a:avLst/>
              <a:gdLst>
                <a:gd name="textAreaLeft" fmla="*/ 42840 w 738360"/>
                <a:gd name="textAreaRight" fmla="*/ 695520 w 73836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4089" h="21600">
                  <a:moveTo>
                    <a:pt x="0" y="0"/>
                  </a:moveTo>
                  <a:lnTo>
                    <a:pt x="24089" y="0"/>
                  </a:lnTo>
                  <a:lnTo>
                    <a:pt x="24089" y="21600"/>
                  </a:lnTo>
                  <a:lnTo>
                    <a:pt x="0" y="21600"/>
                  </a:lnTo>
                  <a:close/>
                </a:path>
                <a:path fill="lightenLess" w="24089" h="21600">
                  <a:moveTo>
                    <a:pt x="0" y="0"/>
                  </a:moveTo>
                  <a:lnTo>
                    <a:pt x="24089" y="0"/>
                  </a:lnTo>
                  <a:lnTo>
                    <a:pt x="22689" y="1400"/>
                  </a:lnTo>
                  <a:lnTo>
                    <a:pt x="1400" y="1400"/>
                  </a:lnTo>
                  <a:close/>
                </a:path>
                <a:path fill="darken" w="24089" h="21600">
                  <a:moveTo>
                    <a:pt x="24089" y="0"/>
                  </a:moveTo>
                  <a:lnTo>
                    <a:pt x="24089" y="21600"/>
                  </a:lnTo>
                  <a:lnTo>
                    <a:pt x="22689" y="20200"/>
                  </a:lnTo>
                  <a:lnTo>
                    <a:pt x="22689" y="1400"/>
                  </a:lnTo>
                  <a:close/>
                </a:path>
                <a:path fill="darkenLess" w="24089" h="21600">
                  <a:moveTo>
                    <a:pt x="240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689" y="20200"/>
                  </a:lnTo>
                  <a:close/>
                </a:path>
                <a:path fill="lighten" w="240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089" h="21600">
                  <a:moveTo>
                    <a:pt x="5038" y="3794"/>
                  </a:moveTo>
                  <a:lnTo>
                    <a:pt x="19051" y="10800"/>
                  </a:lnTo>
                  <a:lnTo>
                    <a:pt x="5038" y="178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AutoShape 61">
              <a:hlinkClick r:id="" action="ppaction://hlinkshowjump?jump=previousslide"/>
            </p:cNvPr>
            <p:cNvSpPr/>
            <p:nvPr/>
          </p:nvSpPr>
          <p:spPr>
            <a:xfrm>
              <a:off x="7010280" y="5867280"/>
              <a:ext cx="662040" cy="662040"/>
            </a:xfrm>
            <a:custGeom>
              <a:avLst/>
              <a:gdLst>
                <a:gd name="textAreaLeft" fmla="*/ 42840 w 662040"/>
                <a:gd name="textAreaRight" fmla="*/ 619200 w 66204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8064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Determinar el sistema. La raí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El segundo paso será determinar el sistema al que pertenece la forma verbal que estamos analiz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30178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Group 5"/>
          <p:cNvGrpSpPr/>
          <p:nvPr/>
        </p:nvGrpSpPr>
        <p:grpSpPr>
          <a:xfrm>
            <a:off x="468360" y="2205000"/>
            <a:ext cx="8424360" cy="2662920"/>
            <a:chOff x="468360" y="2205000"/>
            <a:chExt cx="8424360" cy="2662920"/>
          </a:xfrm>
        </p:grpSpPr>
        <p:grpSp>
          <p:nvGrpSpPr>
            <p:cNvPr id="900" name="Group 6"/>
            <p:cNvGrpSpPr/>
            <p:nvPr/>
          </p:nvGrpSpPr>
          <p:grpSpPr>
            <a:xfrm>
              <a:off x="473400" y="2219760"/>
              <a:ext cx="8413200" cy="2630880"/>
              <a:chOff x="473400" y="2219760"/>
              <a:chExt cx="8413200" cy="2630880"/>
            </a:xfrm>
          </p:grpSpPr>
          <p:grpSp>
            <p:nvGrpSpPr>
              <p:cNvPr id="901" name="Group 7"/>
              <p:cNvGrpSpPr/>
              <p:nvPr/>
            </p:nvGrpSpPr>
            <p:grpSpPr>
              <a:xfrm>
                <a:off x="473400" y="2219760"/>
                <a:ext cx="2101320" cy="876240"/>
                <a:chOff x="473400" y="2219760"/>
                <a:chExt cx="2101320" cy="876240"/>
              </a:xfrm>
            </p:grpSpPr>
            <p:sp>
              <p:nvSpPr>
                <p:cNvPr id="902" name="Rectangle 8"/>
                <p:cNvSpPr/>
                <p:nvPr/>
              </p:nvSpPr>
              <p:spPr>
                <a:xfrm>
                  <a:off x="473400" y="2219760"/>
                  <a:ext cx="2101320" cy="87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3" name="Group 9"/>
                <p:cNvGrpSpPr/>
                <p:nvPr/>
              </p:nvGrpSpPr>
              <p:grpSpPr>
                <a:xfrm>
                  <a:off x="473400" y="2219760"/>
                  <a:ext cx="2100960" cy="875160"/>
                  <a:chOff x="473400" y="2219760"/>
                  <a:chExt cx="2100960" cy="875160"/>
                </a:xfrm>
              </p:grpSpPr>
              <p:sp>
                <p:nvSpPr>
                  <p:cNvPr id="904" name="Rectangle 10"/>
                  <p:cNvSpPr/>
                  <p:nvPr/>
                </p:nvSpPr>
                <p:spPr>
                  <a:xfrm>
                    <a:off x="473400" y="2219760"/>
                    <a:ext cx="2100960" cy="87516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Tema de present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Rectangle 11"/>
                  <p:cNvSpPr/>
                  <p:nvPr/>
                </p:nvSpPr>
                <p:spPr>
                  <a:xfrm>
                    <a:off x="473400" y="2219760"/>
                    <a:ext cx="210096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6" name="Group 12"/>
              <p:cNvGrpSpPr/>
              <p:nvPr/>
            </p:nvGrpSpPr>
            <p:grpSpPr>
              <a:xfrm>
                <a:off x="2575080" y="2219760"/>
                <a:ext cx="6311520" cy="876240"/>
                <a:chOff x="2575080" y="2219760"/>
                <a:chExt cx="6311520" cy="876240"/>
              </a:xfrm>
            </p:grpSpPr>
            <p:sp>
              <p:nvSpPr>
                <p:cNvPr id="907" name="Rectangle 13"/>
                <p:cNvSpPr/>
                <p:nvPr/>
              </p:nvSpPr>
              <p:spPr>
                <a:xfrm>
                  <a:off x="2575080" y="2219760"/>
                  <a:ext cx="6311520" cy="87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8" name="Group 14"/>
                <p:cNvGrpSpPr/>
                <p:nvPr/>
              </p:nvGrpSpPr>
              <p:grpSpPr>
                <a:xfrm>
                  <a:off x="2575080" y="2219760"/>
                  <a:ext cx="6309720" cy="875160"/>
                  <a:chOff x="2575080" y="2219760"/>
                  <a:chExt cx="6309720" cy="875160"/>
                </a:xfrm>
              </p:grpSpPr>
              <p:sp>
                <p:nvSpPr>
                  <p:cNvPr id="909" name="Rectangle 15"/>
                  <p:cNvSpPr/>
                  <p:nvPr/>
                </p:nvSpPr>
                <p:spPr>
                  <a:xfrm>
                    <a:off x="2575080" y="2219760"/>
                    <a:ext cx="6308280" cy="87516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-o </a:t>
                    </a:r>
                    <a:r>
                      <a:rPr b="0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 la 1ª forma menos en la 1ªconjugación que quitamos la </a:t>
                    </a:r>
                    <a:r>
                      <a:rPr b="1" i="1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–s</a:t>
                    </a:r>
                    <a:r>
                      <a:rPr b="0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 a la 2ª forma Ej.: </a:t>
                    </a:r>
                    <a:r>
                      <a:rPr b="1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ma-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Rectangle 16"/>
                  <p:cNvSpPr/>
                  <p:nvPr/>
                </p:nvSpPr>
                <p:spPr>
                  <a:xfrm>
                    <a:off x="2575080" y="2219760"/>
                    <a:ext cx="630972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1" name="Group 17"/>
              <p:cNvGrpSpPr/>
              <p:nvPr/>
            </p:nvGrpSpPr>
            <p:grpSpPr>
              <a:xfrm>
                <a:off x="473400" y="3097080"/>
                <a:ext cx="2101320" cy="876240"/>
                <a:chOff x="473400" y="3097080"/>
                <a:chExt cx="2101320" cy="876240"/>
              </a:xfrm>
            </p:grpSpPr>
            <p:sp>
              <p:nvSpPr>
                <p:cNvPr id="912" name="Rectangle 18"/>
                <p:cNvSpPr/>
                <p:nvPr/>
              </p:nvSpPr>
              <p:spPr>
                <a:xfrm>
                  <a:off x="473400" y="3097080"/>
                  <a:ext cx="2101320" cy="87624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3" name="Group 19"/>
                <p:cNvGrpSpPr/>
                <p:nvPr/>
              </p:nvGrpSpPr>
              <p:grpSpPr>
                <a:xfrm>
                  <a:off x="473400" y="3097080"/>
                  <a:ext cx="2100960" cy="875160"/>
                  <a:chOff x="473400" y="3097080"/>
                  <a:chExt cx="2100960" cy="875160"/>
                </a:xfrm>
              </p:grpSpPr>
              <p:sp>
                <p:nvSpPr>
                  <p:cNvPr id="914" name="Rectangle 20"/>
                  <p:cNvSpPr/>
                  <p:nvPr/>
                </p:nvSpPr>
                <p:spPr>
                  <a:xfrm>
                    <a:off x="473400" y="3097080"/>
                    <a:ext cx="2100960" cy="87516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Tema de perfect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Rectangle 21"/>
                  <p:cNvSpPr/>
                  <p:nvPr/>
                </p:nvSpPr>
                <p:spPr>
                  <a:xfrm>
                    <a:off x="473400" y="3097080"/>
                    <a:ext cx="210096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6" name="Group 22"/>
              <p:cNvGrpSpPr/>
              <p:nvPr/>
            </p:nvGrpSpPr>
            <p:grpSpPr>
              <a:xfrm>
                <a:off x="2575080" y="3097080"/>
                <a:ext cx="6311520" cy="876240"/>
                <a:chOff x="2575080" y="3097080"/>
                <a:chExt cx="6311520" cy="876240"/>
              </a:xfrm>
            </p:grpSpPr>
            <p:sp>
              <p:nvSpPr>
                <p:cNvPr id="917" name="Rectangle 23"/>
                <p:cNvSpPr/>
                <p:nvPr/>
              </p:nvSpPr>
              <p:spPr>
                <a:xfrm>
                  <a:off x="2575080" y="3097080"/>
                  <a:ext cx="6311520" cy="87624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8" name="Group 24"/>
                <p:cNvGrpSpPr/>
                <p:nvPr/>
              </p:nvGrpSpPr>
              <p:grpSpPr>
                <a:xfrm>
                  <a:off x="2575080" y="3097080"/>
                  <a:ext cx="6309720" cy="875160"/>
                  <a:chOff x="2575080" y="3097080"/>
                  <a:chExt cx="6309720" cy="875160"/>
                </a:xfrm>
              </p:grpSpPr>
              <p:sp>
                <p:nvSpPr>
                  <p:cNvPr id="919" name="Rectangle 25"/>
                  <p:cNvSpPr/>
                  <p:nvPr/>
                </p:nvSpPr>
                <p:spPr>
                  <a:xfrm>
                    <a:off x="2575080" y="3097080"/>
                    <a:ext cx="6308280" cy="87516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Quitamos la desinencia </a:t>
                    </a:r>
                    <a:r>
                      <a:rPr b="1" i="1" lang="es-ES" sz="20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-i</a:t>
                    </a:r>
                    <a:r>
                      <a:rPr b="0" lang="es-ES" sz="20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 al perfecto de indicativo. Ej.: </a:t>
                    </a:r>
                    <a:r>
                      <a:rPr b="1" lang="es-ES" sz="20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amav-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Rectangle 26"/>
                  <p:cNvSpPr/>
                  <p:nvPr/>
                </p:nvSpPr>
                <p:spPr>
                  <a:xfrm>
                    <a:off x="2575080" y="3097080"/>
                    <a:ext cx="630972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1" name="Group 27"/>
              <p:cNvGrpSpPr/>
              <p:nvPr/>
            </p:nvGrpSpPr>
            <p:grpSpPr>
              <a:xfrm>
                <a:off x="473400" y="3974400"/>
                <a:ext cx="2101320" cy="876240"/>
                <a:chOff x="473400" y="3974400"/>
                <a:chExt cx="2101320" cy="876240"/>
              </a:xfrm>
            </p:grpSpPr>
            <p:sp>
              <p:nvSpPr>
                <p:cNvPr id="922" name="Rectangle 28"/>
                <p:cNvSpPr/>
                <p:nvPr/>
              </p:nvSpPr>
              <p:spPr>
                <a:xfrm>
                  <a:off x="473400" y="3974400"/>
                  <a:ext cx="2101320" cy="87624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23" name="Group 29"/>
                <p:cNvGrpSpPr/>
                <p:nvPr/>
              </p:nvGrpSpPr>
              <p:grpSpPr>
                <a:xfrm>
                  <a:off x="473400" y="3974400"/>
                  <a:ext cx="2100960" cy="875160"/>
                  <a:chOff x="473400" y="3974400"/>
                  <a:chExt cx="2100960" cy="875160"/>
                </a:xfrm>
              </p:grpSpPr>
              <p:sp>
                <p:nvSpPr>
                  <p:cNvPr id="924" name="Rectangle 30"/>
                  <p:cNvSpPr/>
                  <p:nvPr/>
                </p:nvSpPr>
                <p:spPr>
                  <a:xfrm>
                    <a:off x="473400" y="3974400"/>
                    <a:ext cx="2100960" cy="87516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Tema de supin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Rectangle 31"/>
                  <p:cNvSpPr/>
                  <p:nvPr/>
                </p:nvSpPr>
                <p:spPr>
                  <a:xfrm>
                    <a:off x="473400" y="3974400"/>
                    <a:ext cx="210096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6" name="Group 32"/>
              <p:cNvGrpSpPr/>
              <p:nvPr/>
            </p:nvGrpSpPr>
            <p:grpSpPr>
              <a:xfrm>
                <a:off x="2575080" y="3974400"/>
                <a:ext cx="6311520" cy="876240"/>
                <a:chOff x="2575080" y="3974400"/>
                <a:chExt cx="6311520" cy="876240"/>
              </a:xfrm>
            </p:grpSpPr>
            <p:sp>
              <p:nvSpPr>
                <p:cNvPr id="927" name="Rectangle 33"/>
                <p:cNvSpPr/>
                <p:nvPr/>
              </p:nvSpPr>
              <p:spPr>
                <a:xfrm>
                  <a:off x="2575080" y="3974400"/>
                  <a:ext cx="6311520" cy="87624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Group 34"/>
                <p:cNvGrpSpPr/>
                <p:nvPr/>
              </p:nvGrpSpPr>
              <p:grpSpPr>
                <a:xfrm>
                  <a:off x="2575080" y="3974400"/>
                  <a:ext cx="6309720" cy="875160"/>
                  <a:chOff x="2575080" y="3974400"/>
                  <a:chExt cx="6309720" cy="875160"/>
                </a:xfrm>
              </p:grpSpPr>
              <p:sp>
                <p:nvSpPr>
                  <p:cNvPr id="929" name="Rectangle 35"/>
                  <p:cNvSpPr/>
                  <p:nvPr/>
                </p:nvSpPr>
                <p:spPr>
                  <a:xfrm>
                    <a:off x="2575080" y="3974400"/>
                    <a:ext cx="6308280" cy="87516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um</a:t>
                    </a:r>
                    <a:r>
                      <a:rPr b="0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 al supino. Ej.: </a:t>
                    </a: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amat-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Rectangle 36"/>
                  <p:cNvSpPr/>
                  <p:nvPr/>
                </p:nvSpPr>
                <p:spPr>
                  <a:xfrm>
                    <a:off x="2575080" y="3974400"/>
                    <a:ext cx="630972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31" name="Rectangle 37"/>
            <p:cNvSpPr/>
            <p:nvPr/>
          </p:nvSpPr>
          <p:spPr>
            <a:xfrm>
              <a:off x="468360" y="2205000"/>
              <a:ext cx="8424360" cy="2662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Text Box 38"/>
          <p:cNvSpPr/>
          <p:nvPr/>
        </p:nvSpPr>
        <p:spPr>
          <a:xfrm>
            <a:off x="838080" y="4419720"/>
            <a:ext cx="8001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Verdana"/>
              </a:rPr>
              <a:t>Recuerda que una forma verbal se compone básicamente de </a:t>
            </a:r>
            <a:r>
              <a:rPr b="1" lang="es-ES_tradnl" sz="1800" spc="-1" strike="noStrike">
                <a:solidFill>
                  <a:srgbClr val="990099"/>
                </a:solidFill>
                <a:latin typeface="Verdana"/>
              </a:rPr>
              <a:t>tema + morfema de tiempo y modo + desinencia personal</a:t>
            </a:r>
            <a:r>
              <a:rPr b="0" lang="es-ES_tradnl" sz="1800" spc="-1" strike="noStrike">
                <a:solidFill>
                  <a:srgbClr val="990099"/>
                </a:solidFill>
                <a:latin typeface="Verdana"/>
              </a:rPr>
              <a:t>. El tema –presente, perfecto o supino- es el primer componente de una forma verb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Group 39"/>
          <p:cNvGrpSpPr/>
          <p:nvPr/>
        </p:nvGrpSpPr>
        <p:grpSpPr>
          <a:xfrm>
            <a:off x="6705720" y="5791320"/>
            <a:ext cx="2109600" cy="738000"/>
            <a:chOff x="6705720" y="5791320"/>
            <a:chExt cx="2109600" cy="738000"/>
          </a:xfrm>
        </p:grpSpPr>
        <p:sp>
          <p:nvSpPr>
            <p:cNvPr id="934" name="AutoShape 40">
              <a:hlinkClick r:id="" action="ppaction://hlinkshowjump?jump=nextslide"/>
            </p:cNvPr>
            <p:cNvSpPr/>
            <p:nvPr/>
          </p:nvSpPr>
          <p:spPr>
            <a:xfrm>
              <a:off x="8196120" y="5791320"/>
              <a:ext cx="619200" cy="738000"/>
            </a:xfrm>
            <a:custGeom>
              <a:avLst/>
              <a:gdLst>
                <a:gd name="textAreaLeft" fmla="*/ 39960 w 619200"/>
                <a:gd name="textAreaRight" fmla="*/ 579240 w 61920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42">
                  <a:moveTo>
                    <a:pt x="0" y="0"/>
                  </a:moveTo>
                  <a:lnTo>
                    <a:pt x="21600" y="0"/>
                  </a:lnTo>
                  <a:lnTo>
                    <a:pt x="21600" y="25742"/>
                  </a:lnTo>
                  <a:lnTo>
                    <a:pt x="0" y="25742"/>
                  </a:lnTo>
                  <a:close/>
                </a:path>
                <a:path fill="lightenLess" w="21600" h="2574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42">
                  <a:moveTo>
                    <a:pt x="21600" y="0"/>
                  </a:moveTo>
                  <a:lnTo>
                    <a:pt x="21600" y="25742"/>
                  </a:lnTo>
                  <a:lnTo>
                    <a:pt x="20200" y="24342"/>
                  </a:lnTo>
                  <a:lnTo>
                    <a:pt x="20200" y="1400"/>
                  </a:lnTo>
                  <a:close/>
                </a:path>
                <a:path fill="darkenLess" w="21600" h="25742">
                  <a:moveTo>
                    <a:pt x="21600" y="25742"/>
                  </a:moveTo>
                  <a:lnTo>
                    <a:pt x="0" y="25742"/>
                  </a:lnTo>
                  <a:lnTo>
                    <a:pt x="1400" y="24342"/>
                  </a:lnTo>
                  <a:lnTo>
                    <a:pt x="20200" y="24342"/>
                  </a:lnTo>
                  <a:close/>
                </a:path>
                <a:path fill="lighten" w="21600" h="25742">
                  <a:moveTo>
                    <a:pt x="0" y="2574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42"/>
                  </a:lnTo>
                  <a:close/>
                </a:path>
                <a:path fill="darken" w="21600" h="25742">
                  <a:moveTo>
                    <a:pt x="3794" y="5864"/>
                  </a:moveTo>
                  <a:lnTo>
                    <a:pt x="17806" y="12871"/>
                  </a:lnTo>
                  <a:lnTo>
                    <a:pt x="3794" y="1987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AutoShape 41">
              <a:hlinkClick r:id="" action="ppaction://hlinkshowjump?jump=firstslide"/>
            </p:cNvPr>
            <p:cNvSpPr/>
            <p:nvPr/>
          </p:nvSpPr>
          <p:spPr>
            <a:xfrm>
              <a:off x="7473600" y="5791320"/>
              <a:ext cx="619200" cy="738000"/>
            </a:xfrm>
            <a:custGeom>
              <a:avLst/>
              <a:gdLst>
                <a:gd name="textAreaLeft" fmla="*/ 39960 w 619200"/>
                <a:gd name="textAreaRight" fmla="*/ 579240 w 61920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42">
                  <a:moveTo>
                    <a:pt x="0" y="0"/>
                  </a:moveTo>
                  <a:lnTo>
                    <a:pt x="21600" y="0"/>
                  </a:lnTo>
                  <a:lnTo>
                    <a:pt x="21600" y="25742"/>
                  </a:lnTo>
                  <a:lnTo>
                    <a:pt x="0" y="25742"/>
                  </a:lnTo>
                  <a:close/>
                </a:path>
                <a:path fill="lightenLess" w="21600" h="2574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42">
                  <a:moveTo>
                    <a:pt x="21600" y="0"/>
                  </a:moveTo>
                  <a:lnTo>
                    <a:pt x="21600" y="25742"/>
                  </a:lnTo>
                  <a:lnTo>
                    <a:pt x="20200" y="24342"/>
                  </a:lnTo>
                  <a:lnTo>
                    <a:pt x="20200" y="1400"/>
                  </a:lnTo>
                  <a:close/>
                </a:path>
                <a:path fill="darkenLess" w="21600" h="25742">
                  <a:moveTo>
                    <a:pt x="21600" y="25742"/>
                  </a:moveTo>
                  <a:lnTo>
                    <a:pt x="0" y="25742"/>
                  </a:lnTo>
                  <a:lnTo>
                    <a:pt x="1400" y="24342"/>
                  </a:lnTo>
                  <a:lnTo>
                    <a:pt x="20200" y="24342"/>
                  </a:lnTo>
                  <a:close/>
                </a:path>
                <a:path fill="lighten" w="21600" h="25742">
                  <a:moveTo>
                    <a:pt x="0" y="2574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42"/>
                  </a:lnTo>
                  <a:close/>
                </a:path>
                <a:path fill="darken" w="21600" h="25742">
                  <a:moveTo>
                    <a:pt x="10800" y="5908"/>
                  </a:moveTo>
                  <a:lnTo>
                    <a:pt x="13376" y="8519"/>
                  </a:lnTo>
                  <a:lnTo>
                    <a:pt x="13376" y="6778"/>
                  </a:lnTo>
                  <a:lnTo>
                    <a:pt x="15152" y="6778"/>
                  </a:lnTo>
                  <a:lnTo>
                    <a:pt x="15152" y="10295"/>
                  </a:lnTo>
                  <a:lnTo>
                    <a:pt x="17763" y="12871"/>
                  </a:lnTo>
                  <a:lnTo>
                    <a:pt x="16109" y="12871"/>
                  </a:lnTo>
                  <a:lnTo>
                    <a:pt x="16109" y="20060"/>
                  </a:lnTo>
                  <a:lnTo>
                    <a:pt x="5491" y="20060"/>
                  </a:lnTo>
                  <a:lnTo>
                    <a:pt x="5491" y="12871"/>
                  </a:lnTo>
                  <a:lnTo>
                    <a:pt x="3837" y="12871"/>
                  </a:lnTo>
                  <a:close/>
                </a:path>
                <a:path fill="darkenLess" w="21600" h="25742">
                  <a:moveTo>
                    <a:pt x="13376" y="8519"/>
                  </a:moveTo>
                  <a:lnTo>
                    <a:pt x="13376" y="6778"/>
                  </a:lnTo>
                  <a:lnTo>
                    <a:pt x="15152" y="6778"/>
                  </a:lnTo>
                  <a:lnTo>
                    <a:pt x="15152" y="10295"/>
                  </a:lnTo>
                  <a:close/>
                </a:path>
                <a:path fill="darkenLess" w="21600" h="25742">
                  <a:moveTo>
                    <a:pt x="9877" y="16370"/>
                  </a:moveTo>
                  <a:lnTo>
                    <a:pt x="11723" y="16370"/>
                  </a:lnTo>
                  <a:lnTo>
                    <a:pt x="11723" y="20060"/>
                  </a:lnTo>
                  <a:lnTo>
                    <a:pt x="16109" y="20060"/>
                  </a:lnTo>
                  <a:lnTo>
                    <a:pt x="16109" y="12871"/>
                  </a:lnTo>
                  <a:lnTo>
                    <a:pt x="5491" y="12871"/>
                  </a:lnTo>
                  <a:lnTo>
                    <a:pt x="5491" y="20060"/>
                  </a:lnTo>
                  <a:lnTo>
                    <a:pt x="9877" y="2006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AutoShape 42">
              <a:hlinkClick r:id="" action="ppaction://hlinkshowjump?jump=previousslide"/>
            </p:cNvPr>
            <p:cNvSpPr/>
            <p:nvPr/>
          </p:nvSpPr>
          <p:spPr>
            <a:xfrm>
              <a:off x="6705720" y="5791320"/>
              <a:ext cx="619200" cy="738000"/>
            </a:xfrm>
            <a:custGeom>
              <a:avLst/>
              <a:gdLst>
                <a:gd name="textAreaLeft" fmla="*/ 39960 w 619200"/>
                <a:gd name="textAreaRight" fmla="*/ 579240 w 61920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42">
                  <a:moveTo>
                    <a:pt x="0" y="0"/>
                  </a:moveTo>
                  <a:lnTo>
                    <a:pt x="21600" y="0"/>
                  </a:lnTo>
                  <a:lnTo>
                    <a:pt x="21600" y="25742"/>
                  </a:lnTo>
                  <a:lnTo>
                    <a:pt x="0" y="25742"/>
                  </a:lnTo>
                  <a:close/>
                </a:path>
                <a:path fill="lightenLess" w="21600" h="2574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42">
                  <a:moveTo>
                    <a:pt x="21600" y="0"/>
                  </a:moveTo>
                  <a:lnTo>
                    <a:pt x="21600" y="25742"/>
                  </a:lnTo>
                  <a:lnTo>
                    <a:pt x="20200" y="24342"/>
                  </a:lnTo>
                  <a:lnTo>
                    <a:pt x="20200" y="1400"/>
                  </a:lnTo>
                  <a:close/>
                </a:path>
                <a:path fill="darkenLess" w="21600" h="25742">
                  <a:moveTo>
                    <a:pt x="21600" y="25742"/>
                  </a:moveTo>
                  <a:lnTo>
                    <a:pt x="0" y="25742"/>
                  </a:lnTo>
                  <a:lnTo>
                    <a:pt x="1400" y="24342"/>
                  </a:lnTo>
                  <a:lnTo>
                    <a:pt x="20200" y="24342"/>
                  </a:lnTo>
                  <a:close/>
                </a:path>
                <a:path fill="lighten" w="21600" h="25742">
                  <a:moveTo>
                    <a:pt x="0" y="2574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42"/>
                  </a:lnTo>
                  <a:close/>
                </a:path>
                <a:path fill="darken" w="21600" h="25742">
                  <a:moveTo>
                    <a:pt x="3794" y="12871"/>
                  </a:moveTo>
                  <a:lnTo>
                    <a:pt x="17806" y="5864"/>
                  </a:lnTo>
                  <a:lnTo>
                    <a:pt x="17806" y="1987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62120" y="334440"/>
            <a:ext cx="816264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Determinar persona y número.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inencia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110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cc00"/>
                </a:solidFill>
                <a:latin typeface="Arial"/>
              </a:rPr>
              <a:t>El </a:t>
            </a: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tercer paso</a:t>
            </a:r>
            <a:r>
              <a:rPr b="0" lang="es-ES_tradnl" sz="1800" spc="-1" strike="noStrike">
                <a:solidFill>
                  <a:srgbClr val="99cc00"/>
                </a:solidFill>
                <a:latin typeface="Arial"/>
              </a:rPr>
              <a:t> en nuestro análisis será aislar la </a:t>
            </a: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desinencia</a:t>
            </a: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personal</a:t>
            </a:r>
            <a:r>
              <a:rPr b="0" lang="es-ES_tradnl" sz="1800" spc="-1" strike="noStrike">
                <a:solidFill>
                  <a:srgbClr val="99cc00"/>
                </a:solidFill>
                <a:latin typeface="Arial"/>
              </a:rPr>
              <a:t> de la forma verb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"/>
          <p:cNvGrpSpPr/>
          <p:nvPr/>
        </p:nvGrpSpPr>
        <p:grpSpPr>
          <a:xfrm>
            <a:off x="611280" y="2060640"/>
            <a:ext cx="3230640" cy="4536360"/>
            <a:chOff x="611280" y="2060640"/>
            <a:chExt cx="3230640" cy="4536360"/>
          </a:xfrm>
        </p:grpSpPr>
        <p:grpSp>
          <p:nvGrpSpPr>
            <p:cNvPr id="940" name="Group 5"/>
            <p:cNvGrpSpPr/>
            <p:nvPr/>
          </p:nvGrpSpPr>
          <p:grpSpPr>
            <a:xfrm>
              <a:off x="613800" y="2070360"/>
              <a:ext cx="3225240" cy="4515480"/>
              <a:chOff x="613800" y="2070360"/>
              <a:chExt cx="3225240" cy="4515480"/>
            </a:xfrm>
          </p:grpSpPr>
          <p:grpSp>
            <p:nvGrpSpPr>
              <p:cNvPr id="941" name="Group 6"/>
              <p:cNvGrpSpPr/>
              <p:nvPr/>
            </p:nvGrpSpPr>
            <p:grpSpPr>
              <a:xfrm>
                <a:off x="613800" y="2070360"/>
                <a:ext cx="3225240" cy="1206360"/>
                <a:chOff x="613800" y="2070360"/>
                <a:chExt cx="3225240" cy="1206360"/>
              </a:xfrm>
            </p:grpSpPr>
            <p:sp>
              <p:nvSpPr>
                <p:cNvPr id="942" name="Rectangle 7"/>
                <p:cNvSpPr/>
                <p:nvPr/>
              </p:nvSpPr>
              <p:spPr>
                <a:xfrm>
                  <a:off x="614520" y="2070360"/>
                  <a:ext cx="3224520" cy="12063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43" name="Group 8"/>
                <p:cNvGrpSpPr/>
                <p:nvPr/>
              </p:nvGrpSpPr>
              <p:grpSpPr>
                <a:xfrm>
                  <a:off x="613800" y="2070360"/>
                  <a:ext cx="3225240" cy="1205640"/>
                  <a:chOff x="613800" y="2070360"/>
                  <a:chExt cx="3225240" cy="1205640"/>
                </a:xfrm>
              </p:grpSpPr>
              <p:sp>
                <p:nvSpPr>
                  <p:cNvPr id="944" name="Rectangle 9"/>
                  <p:cNvSpPr/>
                  <p:nvPr/>
                </p:nvSpPr>
                <p:spPr>
                  <a:xfrm>
                    <a:off x="636840" y="2070360"/>
                    <a:ext cx="3177720" cy="12056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esinencias personales activa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Rectangle 10"/>
                  <p:cNvSpPr/>
                  <p:nvPr/>
                </p:nvSpPr>
                <p:spPr>
                  <a:xfrm>
                    <a:off x="613800" y="2070360"/>
                    <a:ext cx="3225240" cy="120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6" name="Group 11"/>
              <p:cNvGrpSpPr/>
              <p:nvPr/>
            </p:nvGrpSpPr>
            <p:grpSpPr>
              <a:xfrm>
                <a:off x="613800" y="3277440"/>
                <a:ext cx="1612440" cy="1205280"/>
                <a:chOff x="613800" y="3277440"/>
                <a:chExt cx="1612440" cy="1205280"/>
              </a:xfrm>
            </p:grpSpPr>
            <p:sp>
              <p:nvSpPr>
                <p:cNvPr id="947" name="Rectangle 12"/>
                <p:cNvSpPr/>
                <p:nvPr/>
              </p:nvSpPr>
              <p:spPr>
                <a:xfrm>
                  <a:off x="614520" y="3277440"/>
                  <a:ext cx="1611720" cy="1205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48" name="Group 13"/>
                <p:cNvGrpSpPr/>
                <p:nvPr/>
              </p:nvGrpSpPr>
              <p:grpSpPr>
                <a:xfrm>
                  <a:off x="613800" y="3277440"/>
                  <a:ext cx="1611360" cy="1204560"/>
                  <a:chOff x="613800" y="3277440"/>
                  <a:chExt cx="1611360" cy="1204560"/>
                </a:xfrm>
              </p:grpSpPr>
              <p:sp>
                <p:nvSpPr>
                  <p:cNvPr id="949" name="Rectangle 14"/>
                  <p:cNvSpPr/>
                  <p:nvPr/>
                </p:nvSpPr>
                <p:spPr>
                  <a:xfrm>
                    <a:off x="636840" y="3277440"/>
                    <a:ext cx="1563120" cy="12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Todos </a:t>
                    </a: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xcepto</a:t>
                    </a:r>
                    <a:r>
                      <a:rPr b="1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pretérito perfecto de indicativo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Rectangle 15"/>
                  <p:cNvSpPr/>
                  <p:nvPr/>
                </p:nvSpPr>
                <p:spPr>
                  <a:xfrm>
                    <a:off x="613800" y="3277440"/>
                    <a:ext cx="1611360" cy="1204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1" name="Group 16"/>
              <p:cNvGrpSpPr/>
              <p:nvPr/>
            </p:nvGrpSpPr>
            <p:grpSpPr>
              <a:xfrm>
                <a:off x="2226240" y="3277440"/>
                <a:ext cx="1612440" cy="1205280"/>
                <a:chOff x="2226240" y="3277440"/>
                <a:chExt cx="1612440" cy="1205280"/>
              </a:xfrm>
            </p:grpSpPr>
            <p:sp>
              <p:nvSpPr>
                <p:cNvPr id="952" name="Rectangle 17"/>
                <p:cNvSpPr/>
                <p:nvPr/>
              </p:nvSpPr>
              <p:spPr>
                <a:xfrm>
                  <a:off x="2226960" y="3277440"/>
                  <a:ext cx="1610640" cy="1205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3" name="Group 18"/>
                <p:cNvGrpSpPr/>
                <p:nvPr/>
              </p:nvGrpSpPr>
              <p:grpSpPr>
                <a:xfrm>
                  <a:off x="2226240" y="3277440"/>
                  <a:ext cx="1612440" cy="1204560"/>
                  <a:chOff x="2226240" y="3277440"/>
                  <a:chExt cx="1612440" cy="1204560"/>
                </a:xfrm>
              </p:grpSpPr>
              <p:sp>
                <p:nvSpPr>
                  <p:cNvPr id="954" name="Rectangle 19"/>
                  <p:cNvSpPr/>
                  <p:nvPr/>
                </p:nvSpPr>
                <p:spPr>
                  <a:xfrm>
                    <a:off x="2249280" y="3277440"/>
                    <a:ext cx="1566000" cy="12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retérito perfecto de indicativo</a:t>
                    </a: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Rectangle 20"/>
                  <p:cNvSpPr/>
                  <p:nvPr/>
                </p:nvSpPr>
                <p:spPr>
                  <a:xfrm>
                    <a:off x="2226240" y="3277440"/>
                    <a:ext cx="1612440" cy="1204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6" name="Group 21"/>
              <p:cNvGrpSpPr/>
              <p:nvPr/>
            </p:nvGrpSpPr>
            <p:grpSpPr>
              <a:xfrm>
                <a:off x="613800" y="4483800"/>
                <a:ext cx="1612440" cy="2102040"/>
                <a:chOff x="613800" y="4483800"/>
                <a:chExt cx="1612440" cy="2102040"/>
              </a:xfrm>
            </p:grpSpPr>
            <p:sp>
              <p:nvSpPr>
                <p:cNvPr id="957" name="Rectangle 22"/>
                <p:cNvSpPr/>
                <p:nvPr/>
              </p:nvSpPr>
              <p:spPr>
                <a:xfrm>
                  <a:off x="614520" y="4483800"/>
                  <a:ext cx="1611720" cy="21020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Group 23"/>
                <p:cNvGrpSpPr/>
                <p:nvPr/>
              </p:nvGrpSpPr>
              <p:grpSpPr>
                <a:xfrm>
                  <a:off x="613800" y="4483800"/>
                  <a:ext cx="1611360" cy="2101320"/>
                  <a:chOff x="613800" y="4483800"/>
                  <a:chExt cx="1611360" cy="2101320"/>
                </a:xfrm>
              </p:grpSpPr>
              <p:sp>
                <p:nvSpPr>
                  <p:cNvPr id="959" name="Rectangle 24"/>
                  <p:cNvSpPr/>
                  <p:nvPr/>
                </p:nvSpPr>
                <p:spPr>
                  <a:xfrm>
                    <a:off x="636840" y="4483800"/>
                    <a:ext cx="1563120" cy="21013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m, -o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t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mu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ti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nt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Rectangle 25"/>
                  <p:cNvSpPr/>
                  <p:nvPr/>
                </p:nvSpPr>
                <p:spPr>
                  <a:xfrm>
                    <a:off x="613800" y="4483800"/>
                    <a:ext cx="1611360" cy="210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1" name="Group 26"/>
              <p:cNvGrpSpPr/>
              <p:nvPr/>
            </p:nvGrpSpPr>
            <p:grpSpPr>
              <a:xfrm>
                <a:off x="2226240" y="4483800"/>
                <a:ext cx="1612440" cy="2102040"/>
                <a:chOff x="2226240" y="4483800"/>
                <a:chExt cx="1612440" cy="2102040"/>
              </a:xfrm>
            </p:grpSpPr>
            <p:sp>
              <p:nvSpPr>
                <p:cNvPr id="962" name="Rectangle 27"/>
                <p:cNvSpPr/>
                <p:nvPr/>
              </p:nvSpPr>
              <p:spPr>
                <a:xfrm>
                  <a:off x="2226960" y="4483800"/>
                  <a:ext cx="1610640" cy="21020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63" name="Group 28"/>
                <p:cNvGrpSpPr/>
                <p:nvPr/>
              </p:nvGrpSpPr>
              <p:grpSpPr>
                <a:xfrm>
                  <a:off x="2226240" y="4483800"/>
                  <a:ext cx="1612440" cy="2101320"/>
                  <a:chOff x="2226240" y="4483800"/>
                  <a:chExt cx="1612440" cy="2101320"/>
                </a:xfrm>
              </p:grpSpPr>
              <p:sp>
                <p:nvSpPr>
                  <p:cNvPr id="964" name="Rectangle 29"/>
                  <p:cNvSpPr/>
                  <p:nvPr/>
                </p:nvSpPr>
                <p:spPr>
                  <a:xfrm>
                    <a:off x="2249280" y="4483800"/>
                    <a:ext cx="1566000" cy="21013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i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isti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it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imu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isti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erunt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(-ere)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Rectangle 30"/>
                  <p:cNvSpPr/>
                  <p:nvPr/>
                </p:nvSpPr>
                <p:spPr>
                  <a:xfrm>
                    <a:off x="2226240" y="4483800"/>
                    <a:ext cx="1612440" cy="210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66" name="Rectangle 31"/>
            <p:cNvSpPr/>
            <p:nvPr/>
          </p:nvSpPr>
          <p:spPr>
            <a:xfrm>
              <a:off x="611280" y="2060640"/>
              <a:ext cx="3230640" cy="4536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7" name="Group 32"/>
          <p:cNvGrpSpPr/>
          <p:nvPr/>
        </p:nvGrpSpPr>
        <p:grpSpPr>
          <a:xfrm>
            <a:off x="7034040" y="5791320"/>
            <a:ext cx="1805040" cy="738000"/>
            <a:chOff x="7034040" y="5791320"/>
            <a:chExt cx="1805040" cy="738000"/>
          </a:xfrm>
        </p:grpSpPr>
        <p:sp>
          <p:nvSpPr>
            <p:cNvPr id="968" name="AutoShape 33">
              <a:hlinkClick r:id="" action="ppaction://hlinkshowjump?jump=nextslide"/>
            </p:cNvPr>
            <p:cNvSpPr/>
            <p:nvPr/>
          </p:nvSpPr>
          <p:spPr>
            <a:xfrm>
              <a:off x="831060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8072"/>
                  </a:moveTo>
                  <a:lnTo>
                    <a:pt x="17806" y="15079"/>
                  </a:lnTo>
                  <a:lnTo>
                    <a:pt x="3794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AutoShape 34">
              <a:hlinkClick r:id="" action="ppaction://hlinkshowjump?jump=firstslide"/>
            </p:cNvPr>
            <p:cNvSpPr/>
            <p:nvPr/>
          </p:nvSpPr>
          <p:spPr>
            <a:xfrm>
              <a:off x="769104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10800" y="8116"/>
                  </a:moveTo>
                  <a:lnTo>
                    <a:pt x="13376" y="10727"/>
                  </a:ln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lnTo>
                    <a:pt x="17763" y="15079"/>
                  </a:lnTo>
                  <a:lnTo>
                    <a:pt x="16109" y="15079"/>
                  </a:lnTo>
                  <a:lnTo>
                    <a:pt x="16109" y="22268"/>
                  </a:lnTo>
                  <a:lnTo>
                    <a:pt x="5491" y="22268"/>
                  </a:lnTo>
                  <a:lnTo>
                    <a:pt x="5491" y="15079"/>
                  </a:lnTo>
                  <a:lnTo>
                    <a:pt x="3837" y="15079"/>
                  </a:lnTo>
                  <a:close/>
                </a:path>
                <a:path fill="darkenLess" w="21600" h="30158">
                  <a:moveTo>
                    <a:pt x="13376" y="10727"/>
                  </a:move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close/>
                </a:path>
                <a:path fill="darkenLess" w="21600" h="30158">
                  <a:moveTo>
                    <a:pt x="9877" y="18578"/>
                  </a:moveTo>
                  <a:lnTo>
                    <a:pt x="11723" y="18578"/>
                  </a:lnTo>
                  <a:lnTo>
                    <a:pt x="11723" y="22268"/>
                  </a:lnTo>
                  <a:lnTo>
                    <a:pt x="16109" y="22268"/>
                  </a:lnTo>
                  <a:lnTo>
                    <a:pt x="16109" y="15079"/>
                  </a:lnTo>
                  <a:lnTo>
                    <a:pt x="5491" y="15079"/>
                  </a:lnTo>
                  <a:lnTo>
                    <a:pt x="5491" y="22268"/>
                  </a:lnTo>
                  <a:lnTo>
                    <a:pt x="9877" y="22268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AutoShape 35">
              <a:hlinkClick r:id="" action="ppaction://hlinkshowjump?jump=previousslide"/>
            </p:cNvPr>
            <p:cNvSpPr/>
            <p:nvPr/>
          </p:nvSpPr>
          <p:spPr>
            <a:xfrm>
              <a:off x="703404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15079"/>
                  </a:moveTo>
                  <a:lnTo>
                    <a:pt x="17806" y="8072"/>
                  </a:lnTo>
                  <a:lnTo>
                    <a:pt x="17806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1" name="Group 36"/>
          <p:cNvGrpSpPr/>
          <p:nvPr/>
        </p:nvGrpSpPr>
        <p:grpSpPr>
          <a:xfrm>
            <a:off x="3851280" y="2060640"/>
            <a:ext cx="3168720" cy="4536360"/>
            <a:chOff x="3851280" y="2060640"/>
            <a:chExt cx="3168720" cy="4536360"/>
          </a:xfrm>
        </p:grpSpPr>
        <p:grpSp>
          <p:nvGrpSpPr>
            <p:cNvPr id="972" name="Group 37"/>
            <p:cNvGrpSpPr/>
            <p:nvPr/>
          </p:nvGrpSpPr>
          <p:grpSpPr>
            <a:xfrm>
              <a:off x="3853440" y="2070360"/>
              <a:ext cx="3163680" cy="4515480"/>
              <a:chOff x="3853440" y="2070360"/>
              <a:chExt cx="3163680" cy="4515480"/>
            </a:xfrm>
          </p:grpSpPr>
          <p:grpSp>
            <p:nvGrpSpPr>
              <p:cNvPr id="973" name="Group 38"/>
              <p:cNvGrpSpPr/>
              <p:nvPr/>
            </p:nvGrpSpPr>
            <p:grpSpPr>
              <a:xfrm>
                <a:off x="3853440" y="2070360"/>
                <a:ext cx="3163680" cy="1206360"/>
                <a:chOff x="3853440" y="2070360"/>
                <a:chExt cx="3163680" cy="1206360"/>
              </a:xfrm>
            </p:grpSpPr>
            <p:sp>
              <p:nvSpPr>
                <p:cNvPr id="974" name="Rectangle 39"/>
                <p:cNvSpPr/>
                <p:nvPr/>
              </p:nvSpPr>
              <p:spPr>
                <a:xfrm>
                  <a:off x="3854160" y="2070360"/>
                  <a:ext cx="3162240" cy="12063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5" name="Group 40"/>
                <p:cNvGrpSpPr/>
                <p:nvPr/>
              </p:nvGrpSpPr>
              <p:grpSpPr>
                <a:xfrm>
                  <a:off x="3853440" y="2070360"/>
                  <a:ext cx="3163680" cy="1205640"/>
                  <a:chOff x="3853440" y="2070360"/>
                  <a:chExt cx="3163680" cy="1205640"/>
                </a:xfrm>
              </p:grpSpPr>
              <p:sp>
                <p:nvSpPr>
                  <p:cNvPr id="976" name="Rectangle 41"/>
                  <p:cNvSpPr/>
                  <p:nvPr/>
                </p:nvSpPr>
                <p:spPr>
                  <a:xfrm>
                    <a:off x="3876120" y="2070360"/>
                    <a:ext cx="3117960" cy="12056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esinencias personales activas del imperativo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Rectangle 42"/>
                  <p:cNvSpPr/>
                  <p:nvPr/>
                </p:nvSpPr>
                <p:spPr>
                  <a:xfrm>
                    <a:off x="3853440" y="2070360"/>
                    <a:ext cx="3163680" cy="120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Group 43"/>
              <p:cNvGrpSpPr/>
              <p:nvPr/>
            </p:nvGrpSpPr>
            <p:grpSpPr>
              <a:xfrm>
                <a:off x="3853440" y="3277440"/>
                <a:ext cx="1581840" cy="1205280"/>
                <a:chOff x="3853440" y="3277440"/>
                <a:chExt cx="1581840" cy="1205280"/>
              </a:xfrm>
            </p:grpSpPr>
            <p:sp>
              <p:nvSpPr>
                <p:cNvPr id="979" name="Rectangle 44"/>
                <p:cNvSpPr/>
                <p:nvPr/>
              </p:nvSpPr>
              <p:spPr>
                <a:xfrm>
                  <a:off x="3854160" y="3277440"/>
                  <a:ext cx="1581120" cy="1205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Group 45"/>
                <p:cNvGrpSpPr/>
                <p:nvPr/>
              </p:nvGrpSpPr>
              <p:grpSpPr>
                <a:xfrm>
                  <a:off x="3853440" y="3277440"/>
                  <a:ext cx="1581840" cy="1204560"/>
                  <a:chOff x="3853440" y="3277440"/>
                  <a:chExt cx="1581840" cy="1204560"/>
                </a:xfrm>
              </p:grpSpPr>
              <p:sp>
                <p:nvSpPr>
                  <p:cNvPr id="981" name="Rectangle 46"/>
                  <p:cNvSpPr/>
                  <p:nvPr/>
                </p:nvSpPr>
                <p:spPr>
                  <a:xfrm>
                    <a:off x="3876120" y="3277440"/>
                    <a:ext cx="1535400" cy="12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resente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Rectangle 47"/>
                  <p:cNvSpPr/>
                  <p:nvPr/>
                </p:nvSpPr>
                <p:spPr>
                  <a:xfrm>
                    <a:off x="3853440" y="3277440"/>
                    <a:ext cx="1581840" cy="1204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Group 48"/>
              <p:cNvGrpSpPr/>
              <p:nvPr/>
            </p:nvGrpSpPr>
            <p:grpSpPr>
              <a:xfrm>
                <a:off x="5435280" y="3277440"/>
                <a:ext cx="1581840" cy="1205280"/>
                <a:chOff x="5435280" y="3277440"/>
                <a:chExt cx="1581840" cy="1205280"/>
              </a:xfrm>
            </p:grpSpPr>
            <p:sp>
              <p:nvSpPr>
                <p:cNvPr id="984" name="Rectangle 49"/>
                <p:cNvSpPr/>
                <p:nvPr/>
              </p:nvSpPr>
              <p:spPr>
                <a:xfrm>
                  <a:off x="5435280" y="3277440"/>
                  <a:ext cx="1581120" cy="1205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5" name="Group 50"/>
                <p:cNvGrpSpPr/>
                <p:nvPr/>
              </p:nvGrpSpPr>
              <p:grpSpPr>
                <a:xfrm>
                  <a:off x="5435280" y="3277440"/>
                  <a:ext cx="1581840" cy="1204560"/>
                  <a:chOff x="5435280" y="3277440"/>
                  <a:chExt cx="1581840" cy="1204560"/>
                </a:xfrm>
              </p:grpSpPr>
              <p:sp>
                <p:nvSpPr>
                  <p:cNvPr id="986" name="Rectangle 51"/>
                  <p:cNvSpPr/>
                  <p:nvPr/>
                </p:nvSpPr>
                <p:spPr>
                  <a:xfrm>
                    <a:off x="5459040" y="3277440"/>
                    <a:ext cx="1535040" cy="12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Futuro</a:t>
                    </a:r>
                    <a:r>
                      <a:rPr b="0" lang="es-E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Rectangle 52"/>
                  <p:cNvSpPr/>
                  <p:nvPr/>
                </p:nvSpPr>
                <p:spPr>
                  <a:xfrm>
                    <a:off x="5435280" y="3277440"/>
                    <a:ext cx="1581840" cy="1204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8" name="Group 53"/>
              <p:cNvGrpSpPr/>
              <p:nvPr/>
            </p:nvGrpSpPr>
            <p:grpSpPr>
              <a:xfrm>
                <a:off x="3853440" y="4483800"/>
                <a:ext cx="1581840" cy="2102040"/>
                <a:chOff x="3853440" y="4483800"/>
                <a:chExt cx="1581840" cy="2102040"/>
              </a:xfrm>
            </p:grpSpPr>
            <p:sp>
              <p:nvSpPr>
                <p:cNvPr id="989" name="Rectangle 54"/>
                <p:cNvSpPr/>
                <p:nvPr/>
              </p:nvSpPr>
              <p:spPr>
                <a:xfrm>
                  <a:off x="3854160" y="4483800"/>
                  <a:ext cx="1581120" cy="21020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90" name="Group 55"/>
                <p:cNvGrpSpPr/>
                <p:nvPr/>
              </p:nvGrpSpPr>
              <p:grpSpPr>
                <a:xfrm>
                  <a:off x="3853440" y="4483800"/>
                  <a:ext cx="1581840" cy="2101320"/>
                  <a:chOff x="3853440" y="4483800"/>
                  <a:chExt cx="1581840" cy="2101320"/>
                </a:xfrm>
              </p:grpSpPr>
              <p:sp>
                <p:nvSpPr>
                  <p:cNvPr id="991" name="Rectangle 56"/>
                  <p:cNvSpPr/>
                  <p:nvPr/>
                </p:nvSpPr>
                <p:spPr>
                  <a:xfrm>
                    <a:off x="3876120" y="4483800"/>
                    <a:ext cx="1535400" cy="21013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-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ninguna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-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-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-te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-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Rectangle 57"/>
                  <p:cNvSpPr/>
                  <p:nvPr/>
                </p:nvSpPr>
                <p:spPr>
                  <a:xfrm>
                    <a:off x="3853440" y="4483800"/>
                    <a:ext cx="1581840" cy="210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58"/>
              <p:cNvGrpSpPr/>
              <p:nvPr/>
            </p:nvGrpSpPr>
            <p:grpSpPr>
              <a:xfrm>
                <a:off x="5435280" y="4483800"/>
                <a:ext cx="1581840" cy="2102040"/>
                <a:chOff x="5435280" y="4483800"/>
                <a:chExt cx="1581840" cy="2102040"/>
              </a:xfrm>
            </p:grpSpPr>
            <p:sp>
              <p:nvSpPr>
                <p:cNvPr id="994" name="Rectangle 59"/>
                <p:cNvSpPr/>
                <p:nvPr/>
              </p:nvSpPr>
              <p:spPr>
                <a:xfrm>
                  <a:off x="5435280" y="4483800"/>
                  <a:ext cx="1581120" cy="21020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95" name="Group 60"/>
                <p:cNvGrpSpPr/>
                <p:nvPr/>
              </p:nvGrpSpPr>
              <p:grpSpPr>
                <a:xfrm>
                  <a:off x="5435280" y="4483800"/>
                  <a:ext cx="1581840" cy="2101320"/>
                  <a:chOff x="5435280" y="4483800"/>
                  <a:chExt cx="1581840" cy="2101320"/>
                </a:xfrm>
              </p:grpSpPr>
              <p:sp>
                <p:nvSpPr>
                  <p:cNvPr id="996" name="Rectangle 61"/>
                  <p:cNvSpPr/>
                  <p:nvPr/>
                </p:nvSpPr>
                <p:spPr>
                  <a:xfrm>
                    <a:off x="5459040" y="4483800"/>
                    <a:ext cx="1535040" cy="21013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to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t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tot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nt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Rectangle 62"/>
                  <p:cNvSpPr/>
                  <p:nvPr/>
                </p:nvSpPr>
                <p:spPr>
                  <a:xfrm>
                    <a:off x="5435280" y="4483800"/>
                    <a:ext cx="1581840" cy="210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98" name="Rectangle 63"/>
            <p:cNvSpPr/>
            <p:nvPr/>
          </p:nvSpPr>
          <p:spPr>
            <a:xfrm>
              <a:off x="3851280" y="2060640"/>
              <a:ext cx="3168720" cy="4536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8252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Determinar tiempo y modo.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Morfema temporal-mod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último pas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nuestro análisis consiste en </a:t>
            </a: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determinar el tiempo y el mo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la forma verbal. Una vez aislado el tema y la desinencia personal, debemos localizar, entre uno y otra, el morfema de tiempo y modo correspond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539640" y="2492280"/>
          <a:ext cx="5112000" cy="5632560"/>
        </p:xfrm>
        <a:graphic>
          <a:graphicData uri="http://schemas.openxmlformats.org/drawingml/2006/table">
            <a:tbl>
              <a:tblPr/>
              <a:tblGrid>
                <a:gridCol w="1154160"/>
                <a:gridCol w="763560"/>
                <a:gridCol w="890640"/>
                <a:gridCol w="647640"/>
                <a:gridCol w="720720"/>
                <a:gridCol w="9352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e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a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t. Imperf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-ba- </a:t>
                      </a: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y 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-e-ba-</a:t>
                      </a: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 y 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re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turo Imperf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b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(i,u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y 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-a-</a:t>
                      </a:r>
                      <a:r>
                        <a:rPr b="1" lang="es-ES_tradnl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ª person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-e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 y 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2" name=""/>
          <p:cNvGraphicFramePr/>
          <p:nvPr/>
        </p:nvGraphicFramePr>
        <p:xfrm>
          <a:off x="5749920" y="2492280"/>
          <a:ext cx="3394080" cy="4095720"/>
        </p:xfrm>
        <a:graphic>
          <a:graphicData uri="http://schemas.openxmlformats.org/drawingml/2006/table">
            <a:tbl>
              <a:tblPr/>
              <a:tblGrid>
                <a:gridCol w="1131840"/>
                <a:gridCol w="1130400"/>
                <a:gridCol w="113184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t. perf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-eri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t. Pluscuam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era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-isse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turo Perf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e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eri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3" name="Group 61"/>
          <p:cNvGrpSpPr/>
          <p:nvPr/>
        </p:nvGrpSpPr>
        <p:grpSpPr>
          <a:xfrm>
            <a:off x="7034040" y="5791320"/>
            <a:ext cx="1805040" cy="738000"/>
            <a:chOff x="7034040" y="5791320"/>
            <a:chExt cx="1805040" cy="738000"/>
          </a:xfrm>
        </p:grpSpPr>
        <p:sp>
          <p:nvSpPr>
            <p:cNvPr id="1004" name="AutoShape 62">
              <a:hlinkClick r:id="" action="ppaction://hlinkshowjump?jump=nextslide"/>
            </p:cNvPr>
            <p:cNvSpPr/>
            <p:nvPr/>
          </p:nvSpPr>
          <p:spPr>
            <a:xfrm>
              <a:off x="831060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8072"/>
                  </a:moveTo>
                  <a:lnTo>
                    <a:pt x="17806" y="15079"/>
                  </a:lnTo>
                  <a:lnTo>
                    <a:pt x="3794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AutoShape 63">
              <a:hlinkClick r:id="" action="ppaction://hlinkshowjump?jump=firstslide"/>
            </p:cNvPr>
            <p:cNvSpPr/>
            <p:nvPr/>
          </p:nvSpPr>
          <p:spPr>
            <a:xfrm>
              <a:off x="769104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10800" y="8116"/>
                  </a:moveTo>
                  <a:lnTo>
                    <a:pt x="13376" y="10727"/>
                  </a:ln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lnTo>
                    <a:pt x="17763" y="15079"/>
                  </a:lnTo>
                  <a:lnTo>
                    <a:pt x="16109" y="15079"/>
                  </a:lnTo>
                  <a:lnTo>
                    <a:pt x="16109" y="22268"/>
                  </a:lnTo>
                  <a:lnTo>
                    <a:pt x="5491" y="22268"/>
                  </a:lnTo>
                  <a:lnTo>
                    <a:pt x="5491" y="15079"/>
                  </a:lnTo>
                  <a:lnTo>
                    <a:pt x="3837" y="15079"/>
                  </a:lnTo>
                  <a:close/>
                </a:path>
                <a:path fill="darkenLess" w="21600" h="30158">
                  <a:moveTo>
                    <a:pt x="13376" y="10727"/>
                  </a:move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close/>
                </a:path>
                <a:path fill="darkenLess" w="21600" h="30158">
                  <a:moveTo>
                    <a:pt x="9877" y="18578"/>
                  </a:moveTo>
                  <a:lnTo>
                    <a:pt x="11723" y="18578"/>
                  </a:lnTo>
                  <a:lnTo>
                    <a:pt x="11723" y="22268"/>
                  </a:lnTo>
                  <a:lnTo>
                    <a:pt x="16109" y="22268"/>
                  </a:lnTo>
                  <a:lnTo>
                    <a:pt x="16109" y="15079"/>
                  </a:lnTo>
                  <a:lnTo>
                    <a:pt x="5491" y="15079"/>
                  </a:lnTo>
                  <a:lnTo>
                    <a:pt x="5491" y="22268"/>
                  </a:lnTo>
                  <a:lnTo>
                    <a:pt x="9877" y="22268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AutoShape 64">
              <a:hlinkClick r:id="" action="ppaction://hlinkshowjump?jump=previousslide"/>
            </p:cNvPr>
            <p:cNvSpPr/>
            <p:nvPr/>
          </p:nvSpPr>
          <p:spPr>
            <a:xfrm>
              <a:off x="703404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15079"/>
                  </a:moveTo>
                  <a:lnTo>
                    <a:pt x="17806" y="8072"/>
                  </a:lnTo>
                  <a:lnTo>
                    <a:pt x="17806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162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608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33"/>
                </a:solidFill>
                <a:latin typeface="Arial"/>
              </a:rPr>
              <a:t>Analicemos la forma verb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lever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4"/>
          <p:cNvSpPr/>
          <p:nvPr/>
        </p:nvSpPr>
        <p:spPr>
          <a:xfrm>
            <a:off x="838080" y="3809880"/>
            <a:ext cx="7620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33"/>
                </a:solidFill>
                <a:latin typeface="Verdana"/>
              </a:rPr>
              <a:t>Se trata de una forma del verb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leo, -es, -ere, -evi, -e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0" name="Group 5"/>
          <p:cNvGrpSpPr/>
          <p:nvPr/>
        </p:nvGrpSpPr>
        <p:grpSpPr>
          <a:xfrm>
            <a:off x="7010280" y="5562720"/>
            <a:ext cx="1805040" cy="738000"/>
            <a:chOff x="7010280" y="5562720"/>
            <a:chExt cx="1805040" cy="738000"/>
          </a:xfrm>
        </p:grpSpPr>
        <p:sp>
          <p:nvSpPr>
            <p:cNvPr id="1011" name="AutoShape 6">
              <a:hlinkClick r:id="" action="ppaction://hlinkshowjump?jump=nextslide"/>
            </p:cNvPr>
            <p:cNvSpPr/>
            <p:nvPr/>
          </p:nvSpPr>
          <p:spPr>
            <a:xfrm>
              <a:off x="8286840" y="55627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8072"/>
                  </a:moveTo>
                  <a:lnTo>
                    <a:pt x="17806" y="15079"/>
                  </a:lnTo>
                  <a:lnTo>
                    <a:pt x="3794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AutoShape 7">
              <a:hlinkClick r:id="" action="ppaction://hlinkshowjump?jump=firstslide"/>
            </p:cNvPr>
            <p:cNvSpPr/>
            <p:nvPr/>
          </p:nvSpPr>
          <p:spPr>
            <a:xfrm>
              <a:off x="7667280" y="55627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10800" y="8116"/>
                  </a:moveTo>
                  <a:lnTo>
                    <a:pt x="13376" y="10727"/>
                  </a:ln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lnTo>
                    <a:pt x="17763" y="15079"/>
                  </a:lnTo>
                  <a:lnTo>
                    <a:pt x="16109" y="15079"/>
                  </a:lnTo>
                  <a:lnTo>
                    <a:pt x="16109" y="22268"/>
                  </a:lnTo>
                  <a:lnTo>
                    <a:pt x="5491" y="22268"/>
                  </a:lnTo>
                  <a:lnTo>
                    <a:pt x="5491" y="15079"/>
                  </a:lnTo>
                  <a:lnTo>
                    <a:pt x="3837" y="15079"/>
                  </a:lnTo>
                  <a:close/>
                </a:path>
                <a:path fill="darkenLess" w="21600" h="30158">
                  <a:moveTo>
                    <a:pt x="13376" y="10727"/>
                  </a:move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close/>
                </a:path>
                <a:path fill="darkenLess" w="21600" h="30158">
                  <a:moveTo>
                    <a:pt x="9877" y="18578"/>
                  </a:moveTo>
                  <a:lnTo>
                    <a:pt x="11723" y="18578"/>
                  </a:lnTo>
                  <a:lnTo>
                    <a:pt x="11723" y="22268"/>
                  </a:lnTo>
                  <a:lnTo>
                    <a:pt x="16109" y="22268"/>
                  </a:lnTo>
                  <a:lnTo>
                    <a:pt x="16109" y="15079"/>
                  </a:lnTo>
                  <a:lnTo>
                    <a:pt x="5491" y="15079"/>
                  </a:lnTo>
                  <a:lnTo>
                    <a:pt x="5491" y="22268"/>
                  </a:lnTo>
                  <a:lnTo>
                    <a:pt x="9877" y="22268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AutoShape 8">
              <a:hlinkClick r:id="" action="ppaction://hlinkshowjump?jump=previousslide"/>
            </p:cNvPr>
            <p:cNvSpPr/>
            <p:nvPr/>
          </p:nvSpPr>
          <p:spPr>
            <a:xfrm>
              <a:off x="7010280" y="55627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15079"/>
                  </a:moveTo>
                  <a:lnTo>
                    <a:pt x="17806" y="8072"/>
                  </a:lnTo>
                  <a:lnTo>
                    <a:pt x="17806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Text Box 2"/>
          <p:cNvSpPr/>
          <p:nvPr/>
        </p:nvSpPr>
        <p:spPr>
          <a:xfrm>
            <a:off x="304920" y="60948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gación: segu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l</a:t>
            </a: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e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_tradnl" sz="2400" spc="-1" strike="noStrike">
                <a:solidFill>
                  <a:srgbClr val="e81d08"/>
                </a:solidFill>
                <a:latin typeface="Verdana"/>
              </a:rPr>
              <a:t>-es, -er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-evi, -e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304920" y="20574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2. Sistema: perf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81d08"/>
                </a:solidFill>
                <a:latin typeface="Verdana"/>
              </a:rPr>
              <a:t>Delev-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4"/>
          <p:cNvSpPr/>
          <p:nvPr/>
        </p:nvSpPr>
        <p:spPr>
          <a:xfrm>
            <a:off x="304920" y="335268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3. Persona y número: 1ª del pl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Delevera</a:t>
            </a:r>
            <a:r>
              <a:rPr b="0" lang="es-ES_tradnl" sz="2400" spc="-1" strike="noStrike">
                <a:solidFill>
                  <a:srgbClr val="e81d08"/>
                </a:solidFill>
                <a:latin typeface="Verdana"/>
              </a:rPr>
              <a:t>-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304920" y="48006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4. Tiempo y modo: pluscuamperfecto de indic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Delev</a:t>
            </a:r>
            <a:r>
              <a:rPr b="0" lang="es-ES_tradnl" sz="2400" spc="-1" strike="noStrike">
                <a:solidFill>
                  <a:srgbClr val="e81d08"/>
                </a:solidFill>
                <a:latin typeface="Verdana"/>
              </a:rPr>
              <a:t>-era-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8" name="Group 6"/>
          <p:cNvGrpSpPr/>
          <p:nvPr/>
        </p:nvGrpSpPr>
        <p:grpSpPr>
          <a:xfrm>
            <a:off x="6948360" y="5734080"/>
            <a:ext cx="1805040" cy="738000"/>
            <a:chOff x="6948360" y="5734080"/>
            <a:chExt cx="1805040" cy="738000"/>
          </a:xfrm>
        </p:grpSpPr>
        <p:sp>
          <p:nvSpPr>
            <p:cNvPr id="1019" name="AutoShape 7">
              <a:hlinkClick r:id="" action="ppaction://hlinkshowjump?jump=nextslide"/>
            </p:cNvPr>
            <p:cNvSpPr/>
            <p:nvPr/>
          </p:nvSpPr>
          <p:spPr>
            <a:xfrm>
              <a:off x="8224920" y="573408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8072"/>
                  </a:moveTo>
                  <a:lnTo>
                    <a:pt x="17806" y="15079"/>
                  </a:lnTo>
                  <a:lnTo>
                    <a:pt x="3794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AutoShape 8">
              <a:hlinkClick r:id="" action="ppaction://hlinkshowjump?jump=firstslide"/>
            </p:cNvPr>
            <p:cNvSpPr/>
            <p:nvPr/>
          </p:nvSpPr>
          <p:spPr>
            <a:xfrm>
              <a:off x="7605360" y="573408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10800" y="8116"/>
                  </a:moveTo>
                  <a:lnTo>
                    <a:pt x="13376" y="10727"/>
                  </a:ln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lnTo>
                    <a:pt x="17763" y="15079"/>
                  </a:lnTo>
                  <a:lnTo>
                    <a:pt x="16109" y="15079"/>
                  </a:lnTo>
                  <a:lnTo>
                    <a:pt x="16109" y="22268"/>
                  </a:lnTo>
                  <a:lnTo>
                    <a:pt x="5491" y="22268"/>
                  </a:lnTo>
                  <a:lnTo>
                    <a:pt x="5491" y="15079"/>
                  </a:lnTo>
                  <a:lnTo>
                    <a:pt x="3837" y="15079"/>
                  </a:lnTo>
                  <a:close/>
                </a:path>
                <a:path fill="darkenLess" w="21600" h="30158">
                  <a:moveTo>
                    <a:pt x="13376" y="10727"/>
                  </a:move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close/>
                </a:path>
                <a:path fill="darkenLess" w="21600" h="30158">
                  <a:moveTo>
                    <a:pt x="9877" y="18578"/>
                  </a:moveTo>
                  <a:lnTo>
                    <a:pt x="11723" y="18578"/>
                  </a:lnTo>
                  <a:lnTo>
                    <a:pt x="11723" y="22268"/>
                  </a:lnTo>
                  <a:lnTo>
                    <a:pt x="16109" y="22268"/>
                  </a:lnTo>
                  <a:lnTo>
                    <a:pt x="16109" y="15079"/>
                  </a:lnTo>
                  <a:lnTo>
                    <a:pt x="5491" y="15079"/>
                  </a:lnTo>
                  <a:lnTo>
                    <a:pt x="5491" y="22268"/>
                  </a:lnTo>
                  <a:lnTo>
                    <a:pt x="9877" y="22268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AutoShape 9">
              <a:hlinkClick r:id="" action="ppaction://hlinkshowjump?jump=previousslide"/>
            </p:cNvPr>
            <p:cNvSpPr/>
            <p:nvPr/>
          </p:nvSpPr>
          <p:spPr>
            <a:xfrm>
              <a:off x="6948360" y="573408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15079"/>
                  </a:moveTo>
                  <a:lnTo>
                    <a:pt x="17806" y="8072"/>
                  </a:lnTo>
                  <a:lnTo>
                    <a:pt x="17806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a conjugación por el tema de present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– consonante o en i breve cuartaEn – i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lica la estructura de las formas verb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Una forma verbal se compone de la raíz con su tema , todo junto. Y después lleva la características temporal modales que indica tiempo y modo.  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umera los tiempos y modos lati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MODOS Personales </a:t>
            </a:r>
            <a:r>
              <a:rPr b="0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Indicativo Subjuntivo Imper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TIEMPOS Tema de presente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G Time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Tema de perfecto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G Time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Presente Imperfecto Futuro Pretérito Perfecto Pretérito Pluscuamperfecto Futuro perf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¿A qué se llama formas nominales del verbo? ¿Cuáles s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No personales </a:t>
            </a:r>
            <a:r>
              <a:rPr b="0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Infinitivo Gerundio Gerundivo Participio Sup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611280" y="2997360"/>
          <a:ext cx="8229600" cy="319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conjug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 en 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un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– 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UNIDAD III</a:t>
            </a:r>
            <a:br>
              <a:rPr sz="4000"/>
            </a:br>
            <a:r>
              <a:rPr b="0" lang="es-ES" sz="4000" spc="-1" strike="noStrike" u="sng">
                <a:solidFill>
                  <a:srgbClr val="dfdef6"/>
                </a:solidFill>
                <a:uFillTx/>
                <a:latin typeface="Arial"/>
              </a:rPr>
              <a:t>ACTIVIDADES DE EVALUACIÓ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686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uáles son las diferencias entre el latín y el castellan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dentifica las funciones de las palabras en castellano según la preposi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efine: “caso” y  “declinación de una palabra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umera los nombres de los casos y sus funci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 las palabras (sustantivos y adjetivos): define lo que es una raíz, el tema, la desinencia y la termin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lasifica las palabras según su estructura: ¿Qué palabras se declinan y cuáles n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conoce las declinaciones por su tem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enuncia un sustantivo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conoce las declinaciones por su enuncia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saca la raíz de un sustantiv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distingue un tema en –i de uno en consonant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distingue la consonante del tema en los temas en consonant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diferencia un tema en –r de un tema en –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reconocen las palabras de género neutr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enuncia un verbo en latí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dentifica la conjugación por el enuncia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uántas raíces tiene un verbo latin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saca cada raíz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dentifica la conjugación por el tema de pres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xplica la estructura de las formas verb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umera los tiempos y modos latin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A qué se llama formas nominales del verbo? ¿Cuáles so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5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8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8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58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2771640" y="2781360"/>
            <a:ext cx="3961080" cy="45972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ÍJATE EN LAS FRA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4572000" y="3645000"/>
            <a:ext cx="4572000" cy="15775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AGRICOL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era sujeto en la frase 1.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AGRICOLAM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era complemento directo en la frase 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AGRICOLAE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era complemento del nombre en la frase 3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4"/>
          <p:cNvGrpSpPr/>
          <p:nvPr/>
        </p:nvGrpSpPr>
        <p:grpSpPr>
          <a:xfrm>
            <a:off x="250920" y="260280"/>
            <a:ext cx="4103280" cy="2770200"/>
            <a:chOff x="250920" y="260280"/>
            <a:chExt cx="4103280" cy="2770200"/>
          </a:xfrm>
        </p:grpSpPr>
        <p:sp>
          <p:nvSpPr>
            <p:cNvPr id="590" name="Text Box 5"/>
            <p:cNvSpPr/>
            <p:nvPr/>
          </p:nvSpPr>
          <p:spPr>
            <a:xfrm>
              <a:off x="250920" y="260280"/>
              <a:ext cx="4103280" cy="7855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AGRICOLA FILIAM AMA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EL AGRICULTOR AMA A SU HIJ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6"/>
            <p:cNvSpPr/>
            <p:nvPr/>
          </p:nvSpPr>
          <p:spPr>
            <a:xfrm>
              <a:off x="250920" y="1002960"/>
              <a:ext cx="4024800" cy="20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L POSESIVO SE SOBREENTIENDE AUNQUE NO ESTÉ 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AL TRADUCIR PONDREMOS ARTÍCULO DETERMINADO O INDETERMINADO SEGÚN CONVENGA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7"/>
          <p:cNvGrpSpPr/>
          <p:nvPr/>
        </p:nvGrpSpPr>
        <p:grpSpPr>
          <a:xfrm>
            <a:off x="4356000" y="260280"/>
            <a:ext cx="4788000" cy="1929600"/>
            <a:chOff x="4356000" y="260280"/>
            <a:chExt cx="4788000" cy="1929600"/>
          </a:xfrm>
        </p:grpSpPr>
        <p:sp>
          <p:nvSpPr>
            <p:cNvPr id="593" name="Text Box 8"/>
            <p:cNvSpPr/>
            <p:nvPr/>
          </p:nvSpPr>
          <p:spPr>
            <a:xfrm>
              <a:off x="4498920" y="260280"/>
              <a:ext cx="4644720" cy="7387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FILIA AGRICOLAM AMA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LA HIJA AMA AL AGRICUL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9"/>
            <p:cNvSpPr/>
            <p:nvPr/>
          </p:nvSpPr>
          <p:spPr>
            <a:xfrm>
              <a:off x="4356000" y="1270440"/>
              <a:ext cx="4788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LAS PALABRAS CAMBIAN DE FORMA SEGÚN EL AFICIO SINTÁCTICO QUE DESEMPEÑA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FILIA, AGRICOLA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  SON SUJETOS; </a:t>
              </a:r>
              <a:r>
                <a:rPr b="1" lang="es-E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FILIAM, AGRICOLAM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 SON COMPLEMENTOS DIRECTO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Group 10"/>
          <p:cNvGrpSpPr/>
          <p:nvPr/>
        </p:nvGrpSpPr>
        <p:grpSpPr>
          <a:xfrm>
            <a:off x="250920" y="3645000"/>
            <a:ext cx="4103640" cy="2304000"/>
            <a:chOff x="250920" y="3645000"/>
            <a:chExt cx="4103640" cy="2304000"/>
          </a:xfrm>
        </p:grpSpPr>
        <p:sp>
          <p:nvSpPr>
            <p:cNvPr id="596" name="Text Box 11"/>
            <p:cNvSpPr/>
            <p:nvPr/>
          </p:nvSpPr>
          <p:spPr>
            <a:xfrm>
              <a:off x="250920" y="3645000"/>
              <a:ext cx="4103640" cy="7387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AGRICOLAE FILIA BONA 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LA HIJA DEL AGRICULTOR ES BUE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2"/>
            <p:cNvSpPr/>
            <p:nvPr/>
          </p:nvSpPr>
          <p:spPr>
            <a:xfrm>
              <a:off x="250920" y="4569120"/>
              <a:ext cx="4103640" cy="13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L ORDEN DEL VERBO EN LATÍN ES AL FINAL DE LAS FRASE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LOS COMPLEMENTOS DEL NOMBRE SE PONEN EN LATÍN DELANTE DEL NOMBR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LOS COMPLEMENTOS DEL VERBO VAN DELANTE DEL VERB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Group 13"/>
          <p:cNvGrpSpPr/>
          <p:nvPr/>
        </p:nvGrpSpPr>
        <p:grpSpPr>
          <a:xfrm>
            <a:off x="4500720" y="5229360"/>
            <a:ext cx="4463640" cy="1179000"/>
            <a:chOff x="4500720" y="5229360"/>
            <a:chExt cx="4463640" cy="1179000"/>
          </a:xfrm>
        </p:grpSpPr>
        <p:sp>
          <p:nvSpPr>
            <p:cNvPr id="599" name="Text Box 14"/>
            <p:cNvSpPr/>
            <p:nvPr/>
          </p:nvSpPr>
          <p:spPr>
            <a:xfrm>
              <a:off x="4500720" y="5765760"/>
              <a:ext cx="4463640" cy="642600"/>
            </a:xfrm>
            <a:prstGeom prst="rect">
              <a:avLst/>
            </a:prstGeom>
            <a:noFill/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Los sustantivos, adjetivos y pronombres cambian de forma, se flexionan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5"/>
            <p:cNvSpPr/>
            <p:nvPr/>
          </p:nvSpPr>
          <p:spPr>
            <a:xfrm>
              <a:off x="6799680" y="5229360"/>
              <a:ext cx="0" cy="536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95280" y="189000"/>
            <a:ext cx="8064360" cy="45972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FERENCIAS ENTRE EL LATÍN Y EL CASTELLA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324000" y="907920"/>
            <a:ext cx="3802320" cy="5615640"/>
            <a:chOff x="324000" y="907920"/>
            <a:chExt cx="3802320" cy="5615640"/>
          </a:xfrm>
        </p:grpSpPr>
        <p:grpSp>
          <p:nvGrpSpPr>
            <p:cNvPr id="603" name="Group 4"/>
            <p:cNvGrpSpPr/>
            <p:nvPr/>
          </p:nvGrpSpPr>
          <p:grpSpPr>
            <a:xfrm>
              <a:off x="1882800" y="1182600"/>
              <a:ext cx="2243520" cy="5065560"/>
              <a:chOff x="1882800" y="1182600"/>
              <a:chExt cx="2243520" cy="5065560"/>
            </a:xfrm>
          </p:grpSpPr>
          <p:sp>
            <p:nvSpPr>
              <p:cNvPr id="604" name="Freeform 5"/>
              <p:cNvSpPr/>
              <p:nvPr/>
            </p:nvSpPr>
            <p:spPr>
              <a:xfrm>
                <a:off x="2877120" y="1182600"/>
                <a:ext cx="680400" cy="1128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6"/>
              <p:cNvSpPr/>
              <p:nvPr/>
            </p:nvSpPr>
            <p:spPr>
              <a:xfrm>
                <a:off x="1882800" y="2449440"/>
                <a:ext cx="1575720" cy="1248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6" name="Group 7"/>
              <p:cNvGrpSpPr/>
              <p:nvPr/>
            </p:nvGrpSpPr>
            <p:grpSpPr>
              <a:xfrm>
                <a:off x="2675520" y="2380680"/>
                <a:ext cx="1450800" cy="3867480"/>
                <a:chOff x="2675520" y="2380680"/>
                <a:chExt cx="1450800" cy="3867480"/>
              </a:xfrm>
            </p:grpSpPr>
            <p:sp>
              <p:nvSpPr>
                <p:cNvPr id="607" name="Freeform 8"/>
                <p:cNvSpPr/>
                <p:nvPr/>
              </p:nvSpPr>
              <p:spPr>
                <a:xfrm>
                  <a:off x="3333600" y="2380680"/>
                  <a:ext cx="531720" cy="1831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9"/>
                <p:cNvSpPr/>
                <p:nvPr/>
              </p:nvSpPr>
              <p:spPr>
                <a:xfrm>
                  <a:off x="3560400" y="2430360"/>
                  <a:ext cx="565920" cy="18183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10"/>
                <p:cNvSpPr/>
                <p:nvPr/>
              </p:nvSpPr>
              <p:spPr>
                <a:xfrm>
                  <a:off x="3333600" y="3747240"/>
                  <a:ext cx="531720" cy="250092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1"/>
                <p:cNvSpPr/>
                <p:nvPr/>
              </p:nvSpPr>
              <p:spPr>
                <a:xfrm>
                  <a:off x="2675520" y="3969360"/>
                  <a:ext cx="905760" cy="22107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Group 12"/>
            <p:cNvGrpSpPr/>
            <p:nvPr/>
          </p:nvGrpSpPr>
          <p:grpSpPr>
            <a:xfrm>
              <a:off x="324000" y="907920"/>
              <a:ext cx="2025720" cy="5615640"/>
              <a:chOff x="324000" y="907920"/>
              <a:chExt cx="2025720" cy="5615640"/>
            </a:xfrm>
          </p:grpSpPr>
          <p:sp>
            <p:nvSpPr>
              <p:cNvPr id="612" name="Freeform 13"/>
              <p:cNvSpPr/>
              <p:nvPr/>
            </p:nvSpPr>
            <p:spPr>
              <a:xfrm>
                <a:off x="946800" y="907920"/>
                <a:ext cx="633240" cy="1266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14"/>
              <p:cNvSpPr/>
              <p:nvPr/>
            </p:nvSpPr>
            <p:spPr>
              <a:xfrm>
                <a:off x="684360" y="2206440"/>
                <a:ext cx="546120" cy="2072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15"/>
              <p:cNvSpPr/>
              <p:nvPr/>
            </p:nvSpPr>
            <p:spPr>
              <a:xfrm>
                <a:off x="1182600" y="2269800"/>
                <a:ext cx="423000" cy="1967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16"/>
              <p:cNvSpPr/>
              <p:nvPr/>
            </p:nvSpPr>
            <p:spPr>
              <a:xfrm>
                <a:off x="324000" y="4058640"/>
                <a:ext cx="555120" cy="24649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17"/>
              <p:cNvSpPr/>
              <p:nvPr/>
            </p:nvSpPr>
            <p:spPr>
              <a:xfrm>
                <a:off x="970920" y="4088160"/>
                <a:ext cx="616680" cy="2403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18"/>
              <p:cNvSpPr/>
              <p:nvPr/>
            </p:nvSpPr>
            <p:spPr>
              <a:xfrm>
                <a:off x="844560" y="2251800"/>
                <a:ext cx="1505160" cy="1488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AutoShape 19"/>
          <p:cNvSpPr/>
          <p:nvPr/>
        </p:nvSpPr>
        <p:spPr>
          <a:xfrm>
            <a:off x="4427640" y="1989000"/>
            <a:ext cx="4465440" cy="4608720"/>
          </a:xfrm>
          <a:prstGeom prst="wedgeEllipseCallout">
            <a:avLst>
              <a:gd name="adj1" fmla="val -65393"/>
              <a:gd name="adj2" fmla="val -64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USENCIA DE ARTÍCU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FLEXIÓN DE LOS NOMB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SO POCO FRECUENTE DE POSES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ORDEN DE LA FR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6732720" y="1413000"/>
            <a:ext cx="208728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OCEDI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348000" y="1413000"/>
            <a:ext cx="3384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nciones sintáct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179280" y="1413000"/>
            <a:ext cx="3168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eposi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6732720" y="2041560"/>
            <a:ext cx="208728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niño vie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mas los lib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s bue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Viene cansad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348000" y="2041560"/>
            <a:ext cx="338472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uje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irecto inanim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tribu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ed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179280" y="2041560"/>
            <a:ext cx="3168720" cy="11001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n preposi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179280" y="66168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17928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11"/>
          <p:cNvSpPr/>
          <p:nvPr/>
        </p:nvSpPr>
        <p:spPr>
          <a:xfrm>
            <a:off x="334800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12"/>
          <p:cNvSpPr/>
          <p:nvPr/>
        </p:nvSpPr>
        <p:spPr>
          <a:xfrm>
            <a:off x="673272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>
            <a:off x="882000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14"/>
          <p:cNvSpPr/>
          <p:nvPr/>
        </p:nvSpPr>
        <p:spPr>
          <a:xfrm>
            <a:off x="179280" y="2060640"/>
            <a:ext cx="864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4067280" y="692280"/>
            <a:ext cx="381636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Se diferencian por la preposi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3419640" y="549360"/>
            <a:ext cx="360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7"/>
          <p:cNvSpPr/>
          <p:nvPr/>
        </p:nvSpPr>
        <p:spPr>
          <a:xfrm>
            <a:off x="1187280" y="0"/>
            <a:ext cx="6624720" cy="459720"/>
          </a:xfrm>
          <a:prstGeom prst="rect">
            <a:avLst/>
          </a:prstGeom>
          <a:solidFill>
            <a:srgbClr val="6666ff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s funciones de las palabras en castell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18"/>
          <p:cNvSpPr/>
          <p:nvPr/>
        </p:nvSpPr>
        <p:spPr>
          <a:xfrm>
            <a:off x="179280" y="3141720"/>
            <a:ext cx="316872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posición 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19"/>
          <p:cNvSpPr/>
          <p:nvPr/>
        </p:nvSpPr>
        <p:spPr>
          <a:xfrm>
            <a:off x="3348000" y="3141720"/>
            <a:ext cx="345744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IRECTO ANIM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INDIR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 LUGAR “ A DOND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6732720" y="3141720"/>
            <a:ext cx="208728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MAS A TU HERMAN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AS ALGO A PEDR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AS A  MADR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179280" y="3933720"/>
            <a:ext cx="3168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posición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22"/>
          <p:cNvSpPr/>
          <p:nvPr/>
        </p:nvSpPr>
        <p:spPr>
          <a:xfrm>
            <a:off x="3348000" y="3933720"/>
            <a:ext cx="3384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LEMENTO DE FINA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23"/>
          <p:cNvSpPr/>
          <p:nvPr/>
        </p:nvSpPr>
        <p:spPr>
          <a:xfrm>
            <a:off x="6732720" y="3933720"/>
            <a:ext cx="2087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AS ALGO PARA PED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ES PARA VIV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24"/>
          <p:cNvSpPr/>
          <p:nvPr/>
        </p:nvSpPr>
        <p:spPr>
          <a:xfrm>
            <a:off x="179280" y="5157720"/>
            <a:ext cx="316872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posición 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25"/>
          <p:cNvSpPr/>
          <p:nvPr/>
        </p:nvSpPr>
        <p:spPr>
          <a:xfrm>
            <a:off x="179280" y="5661000"/>
            <a:ext cx="3168720" cy="93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as las preposi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26"/>
          <p:cNvSpPr/>
          <p:nvPr/>
        </p:nvSpPr>
        <p:spPr>
          <a:xfrm>
            <a:off x="179280" y="4581360"/>
            <a:ext cx="3168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posición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27"/>
          <p:cNvSpPr/>
          <p:nvPr/>
        </p:nvSpPr>
        <p:spPr>
          <a:xfrm>
            <a:off x="3348000" y="4581360"/>
            <a:ext cx="338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L NOMB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 LUGAR “DE DOND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28"/>
          <p:cNvSpPr/>
          <p:nvPr/>
        </p:nvSpPr>
        <p:spPr>
          <a:xfrm>
            <a:off x="3348000" y="5229360"/>
            <a:ext cx="3384720" cy="431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 LUGAR “EN DOND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29"/>
          <p:cNvSpPr/>
          <p:nvPr/>
        </p:nvSpPr>
        <p:spPr>
          <a:xfrm>
            <a:off x="3348000" y="5661000"/>
            <a:ext cx="338472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S CIRCUNSTANCI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 MODO, TIEMPO, CAUSA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30"/>
          <p:cNvSpPr/>
          <p:nvPr/>
        </p:nvSpPr>
        <p:spPr>
          <a:xfrm>
            <a:off x="6732720" y="4581360"/>
            <a:ext cx="208728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ES HERMANO DE PED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IENES DE MAD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31"/>
          <p:cNvSpPr/>
          <p:nvPr/>
        </p:nvSpPr>
        <p:spPr>
          <a:xfrm>
            <a:off x="6732720" y="5229360"/>
            <a:ext cx="208728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ESTAS EN MAD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32"/>
          <p:cNvSpPr/>
          <p:nvPr/>
        </p:nvSpPr>
        <p:spPr>
          <a:xfrm>
            <a:off x="6732720" y="5661000"/>
            <a:ext cx="208728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IENES POR EL CAMIN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CTÚAS CON RAPID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324000" y="189000"/>
            <a:ext cx="8351640" cy="8254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FINICIÓN DE CASO Y DECLINACIÓN DE UNA PALA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4788000" y="2254680"/>
            <a:ext cx="3600360" cy="2527200"/>
            <a:chOff x="4788000" y="2254680"/>
            <a:chExt cx="3600360" cy="2527200"/>
          </a:xfrm>
        </p:grpSpPr>
        <p:sp>
          <p:nvSpPr>
            <p:cNvPr id="652" name="Text Box 4"/>
            <p:cNvSpPr/>
            <p:nvPr/>
          </p:nvSpPr>
          <p:spPr>
            <a:xfrm>
              <a:off x="4788000" y="3316320"/>
              <a:ext cx="3600360" cy="1465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DECLINACIÓN DE UNA  PALABRA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ES DECIR TODOS SUS CASOS DE MANERA ORDENADA EN SINGULAR Y PLURAL. HAY 6 CASO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5"/>
            <p:cNvGrpSpPr/>
            <p:nvPr/>
          </p:nvGrpSpPr>
          <p:grpSpPr>
            <a:xfrm>
              <a:off x="6732360" y="2254680"/>
              <a:ext cx="1439640" cy="958320"/>
              <a:chOff x="6732360" y="2254680"/>
              <a:chExt cx="1439640" cy="958320"/>
            </a:xfrm>
          </p:grpSpPr>
          <p:pic>
            <p:nvPicPr>
              <p:cNvPr id="654" name="Picture 6" descr="LIBRO3"/>
              <p:cNvPicPr/>
              <p:nvPr/>
            </p:nvPicPr>
            <p:blipFill>
              <a:blip r:embed="rId1"/>
              <a:stretch/>
            </p:blipFill>
            <p:spPr>
              <a:xfrm>
                <a:off x="6732360" y="2421000"/>
                <a:ext cx="1439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Text Box 7"/>
              <p:cNvSpPr/>
              <p:nvPr/>
            </p:nvSpPr>
            <p:spPr>
              <a:xfrm rot="2572200">
                <a:off x="7184880" y="250452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00"/>
                    </a:solidFill>
                    <a:latin typeface="Book Antiqua"/>
                  </a:rPr>
                  <a:t>LATI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Group 8"/>
          <p:cNvGrpSpPr/>
          <p:nvPr/>
        </p:nvGrpSpPr>
        <p:grpSpPr>
          <a:xfrm>
            <a:off x="324000" y="3573360"/>
            <a:ext cx="4390920" cy="1739880"/>
            <a:chOff x="324000" y="3573360"/>
            <a:chExt cx="4390920" cy="1739880"/>
          </a:xfrm>
        </p:grpSpPr>
        <p:sp>
          <p:nvSpPr>
            <p:cNvPr id="657" name="Text Box 9"/>
            <p:cNvSpPr/>
            <p:nvPr/>
          </p:nvSpPr>
          <p:spPr>
            <a:xfrm>
              <a:off x="324000" y="3573360"/>
              <a:ext cx="2808360" cy="1739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ASO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ES CADA UNA DE LAS FORMAS QUE ADOPTA UNA PALABRA PARA EXPRESAR LOS DISTINTOS OFIC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10"/>
            <p:cNvSpPr/>
            <p:nvPr/>
          </p:nvSpPr>
          <p:spPr>
            <a:xfrm>
              <a:off x="3132360" y="4478400"/>
              <a:ext cx="15825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9" name="Picture 11" descr="PE03254_"/>
          <p:cNvPicPr/>
          <p:nvPr/>
        </p:nvPicPr>
        <p:blipFill>
          <a:blip r:embed="rId2"/>
          <a:stretch/>
        </p:blipFill>
        <p:spPr>
          <a:xfrm>
            <a:off x="395280" y="1197000"/>
            <a:ext cx="230364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6732720" y="1413000"/>
            <a:ext cx="208728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TRA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3348000" y="1413000"/>
            <a:ext cx="3384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nciones sintáct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179280" y="1413000"/>
            <a:ext cx="3168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6732720" y="2041560"/>
            <a:ext cx="208728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IN PREPOSI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3348000" y="2041560"/>
            <a:ext cx="338472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uje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tribu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ed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179280" y="2041560"/>
            <a:ext cx="3168720" cy="11001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MINATIV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8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9"/>
          <p:cNvSpPr/>
          <p:nvPr/>
        </p:nvSpPr>
        <p:spPr>
          <a:xfrm>
            <a:off x="179280" y="66168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10"/>
          <p:cNvSpPr/>
          <p:nvPr/>
        </p:nvSpPr>
        <p:spPr>
          <a:xfrm>
            <a:off x="17928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334800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673272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882000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179280" y="2060640"/>
            <a:ext cx="864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4067280" y="692280"/>
            <a:ext cx="381636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Se diferencian por TERMIN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3419640" y="549360"/>
            <a:ext cx="360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1187280" y="0"/>
            <a:ext cx="6624720" cy="459720"/>
          </a:xfrm>
          <a:prstGeom prst="rect">
            <a:avLst/>
          </a:prstGeom>
          <a:solidFill>
            <a:srgbClr val="6666ff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CASOS LATINOS Y SUS FU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18"/>
          <p:cNvSpPr/>
          <p:nvPr/>
        </p:nvSpPr>
        <p:spPr>
          <a:xfrm>
            <a:off x="179280" y="3141720"/>
            <a:ext cx="316872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OC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19"/>
          <p:cNvSpPr/>
          <p:nvPr/>
        </p:nvSpPr>
        <p:spPr>
          <a:xfrm>
            <a:off x="3348000" y="3141720"/>
            <a:ext cx="345744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LLAMADA, INVOCACIÓN, EXCLAM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20"/>
          <p:cNvSpPr/>
          <p:nvPr/>
        </p:nvSpPr>
        <p:spPr>
          <a:xfrm>
            <a:off x="6732720" y="3141720"/>
            <a:ext cx="208728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IN PREPOSICIÓN Y ENTRE COM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21"/>
          <p:cNvSpPr/>
          <p:nvPr/>
        </p:nvSpPr>
        <p:spPr>
          <a:xfrm>
            <a:off x="179280" y="3933720"/>
            <a:ext cx="3168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US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2"/>
          <p:cNvSpPr/>
          <p:nvPr/>
        </p:nvSpPr>
        <p:spPr>
          <a:xfrm>
            <a:off x="3348000" y="3933720"/>
            <a:ext cx="3384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IREC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PRED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 LUGAR “ A DOND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23"/>
          <p:cNvSpPr/>
          <p:nvPr/>
        </p:nvSpPr>
        <p:spPr>
          <a:xfrm>
            <a:off x="6732720" y="3933720"/>
            <a:ext cx="2087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N PREPOSICIÓN (INANIMAD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 (ANIMAD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4"/>
          <p:cNvSpPr/>
          <p:nvPr/>
        </p:nvSpPr>
        <p:spPr>
          <a:xfrm>
            <a:off x="179280" y="5157720"/>
            <a:ext cx="316872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25"/>
          <p:cNvSpPr/>
          <p:nvPr/>
        </p:nvSpPr>
        <p:spPr>
          <a:xfrm>
            <a:off x="179280" y="5661000"/>
            <a:ext cx="3168720" cy="93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BL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6"/>
          <p:cNvSpPr/>
          <p:nvPr/>
        </p:nvSpPr>
        <p:spPr>
          <a:xfrm>
            <a:off x="179280" y="4581360"/>
            <a:ext cx="3168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E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27"/>
          <p:cNvSpPr/>
          <p:nvPr/>
        </p:nvSpPr>
        <p:spPr>
          <a:xfrm>
            <a:off x="3348000" y="4581360"/>
            <a:ext cx="338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L NOMB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8"/>
          <p:cNvSpPr/>
          <p:nvPr/>
        </p:nvSpPr>
        <p:spPr>
          <a:xfrm>
            <a:off x="3348000" y="5229360"/>
            <a:ext cx="3384720" cy="431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LEMENTO DE FINA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29"/>
          <p:cNvSpPr/>
          <p:nvPr/>
        </p:nvSpPr>
        <p:spPr>
          <a:xfrm>
            <a:off x="3348000" y="5661000"/>
            <a:ext cx="338472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S CIRCUNSTANCI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 MODO, TIEMPO, CAUSA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0"/>
          <p:cNvSpPr/>
          <p:nvPr/>
        </p:nvSpPr>
        <p:spPr>
          <a:xfrm>
            <a:off x="6732720" y="4581360"/>
            <a:ext cx="208728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31"/>
          <p:cNvSpPr/>
          <p:nvPr/>
        </p:nvSpPr>
        <p:spPr>
          <a:xfrm>
            <a:off x="6732720" y="5229360"/>
            <a:ext cx="208728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, PA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32"/>
          <p:cNvSpPr/>
          <p:nvPr/>
        </p:nvSpPr>
        <p:spPr>
          <a:xfrm>
            <a:off x="6732720" y="5661000"/>
            <a:ext cx="208728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EN, DE, DESDE, POR, C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252360"/>
            <a:ext cx="9144000" cy="6617880"/>
          </a:xfrm>
          <a:prstGeom prst="rect">
            <a:avLst/>
          </a:prstGeom>
          <a:gradFill rotWithShape="0">
            <a:gsLst>
              <a:gs pos="0">
                <a:srgbClr val="36365f"/>
              </a:gs>
              <a:gs pos="100000">
                <a:srgbClr val="484880"/>
              </a:gs>
            </a:gsLst>
            <a:lin ang="16200000"/>
          </a:gradFill>
          <a:ln w="9360">
            <a:solidFill>
              <a:srgbClr val="4f4f7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EJERCICIOS DE EVALUACIÓN  UNIDAD I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aliza el oficio en castellano e indica en qué caso iría en latí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CHICA DE SERVICIO VENÍA DE SU CASA A LA NUESTRA PARA LA LIMPIEZA Y DEJABA TODO LIMPIO EN POCO TIEMPO CON EFICAC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abiendo que todas las palabras están en un  mismo caso explica la estructura y determina la declinación a que pertenec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QUARUM- AMICORUM- SPE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OSTIUM- MILITUM- MANU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i la declinación, el tema, la raíz y explica las que sean neut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ELLUM BELLI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     EXERCITUS EXERCITUS                RETE RE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GER AGRI                           DIES DIEI                                         NOMEN NOMIN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ILIA FILIAE                          GENU GENUS                                  GENUS GENER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i con qué formas he enunciado los verbos, saca las raíces, di el tema y la conjugació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FICIO DEFICIS DEFICERE DEFECI DEFECT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VIGO NAVIGAS NAVIGARE NAVIGAVI NAVIGAT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HABEO HABES HABERE HABUI HABIT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EGO LEGIS LEGERE LEXI LECT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ENIO VENIS VENIRE VENI VENT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9:23:11Z</dcterms:created>
  <dc:creator>Fernando Ureña Villanueva</dc:creator>
  <dc:description/>
  <dc:language>en-US</dc:language>
  <cp:lastModifiedBy>AUDIOLEASK</cp:lastModifiedBy>
  <dcterms:modified xsi:type="dcterms:W3CDTF">2010-10-15T01:33:36Z</dcterms:modified>
  <cp:revision>45</cp:revision>
  <dc:subject>Normas de Convivencia</dc:subject>
  <dc:title>Diapositivas</dc:title>
</cp:coreProperties>
</file>